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1F7-703F-4E3D-BD5A-5DB7F0C9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613-F3C2-4C8E-A5EE-1C871487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FDB-CC82-4A0C-8210-B7EEA381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D3C-D746-4CEA-865B-7629C374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0FC1-0CA0-4E9F-A874-D883BAE4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2AA6-D2DE-41AA-8D14-D773BF1D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A563-2833-4B7A-B21F-224893F5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452F-4F81-47BB-9FD6-A99A51DC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F17F-2186-4D75-98F0-C84E5C7D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D82A-9D49-44A1-AE22-6902EDE3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F7E0-A7B2-492D-9541-73333F17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CCF-A834-44E7-8808-20E1FDBC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BDD0-A905-4BBD-A0F7-D41B36FC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96AA-50B9-47C6-A3E1-10E66892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4EF8-318B-464D-BD72-E8D40564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19B4-D162-4FC6-BE79-F9EA914F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4BC7-AB12-40E2-9C92-FCDDEE8C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E02-5EA7-4A8E-B985-BD03CABC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B24-6AB6-4BBF-9006-4906AD41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E33-94C2-4E3F-B6A8-1EAF6B90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C74-4BA5-4D51-B618-604DF1A6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5DA-63A1-4F8E-ABD7-03E310C8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75D-7873-4C71-95C3-D9F9628D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6D9-5941-4D5E-8B37-63059881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7A01-E696-469D-9D43-998495DF09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81CF-C46D-40D4-AA5D-4B024B7835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5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mmunication between distributed object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3, © Addison-Wesley 200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360" y="2895480"/>
            <a:ext cx="1933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aling room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499040" y="1373040"/>
            <a:ext cx="6793920" cy="4610160"/>
            <a:chOff x="1499040" y="1373040"/>
            <a:chExt cx="6793920" cy="4610160"/>
          </a:xfrm>
        </p:grpSpPr>
        <p:sp>
          <p:nvSpPr>
            <p:cNvPr id="359" name=""/>
            <p:cNvSpPr/>
            <p:nvPr/>
          </p:nvSpPr>
          <p:spPr>
            <a:xfrm>
              <a:off x="4113360" y="1768320"/>
              <a:ext cx="1687320" cy="15922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13360" y="3916440"/>
              <a:ext cx="1687320" cy="15922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3360" y="3916440"/>
              <a:ext cx="1706400" cy="1611360"/>
            </a:xfrm>
            <a:prstGeom prst="rect">
              <a:avLst/>
            </a:prstGeom>
            <a:noFill/>
            <a:ln w="2844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46560" y="3992400"/>
              <a:ext cx="1400040" cy="1400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62880" y="4184640"/>
              <a:ext cx="1630080" cy="16304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19280" y="4184640"/>
              <a:ext cx="1630440" cy="16304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19280" y="1633680"/>
              <a:ext cx="1611360" cy="16300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46560" y="1863720"/>
              <a:ext cx="1400040" cy="1400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45240" y="1633680"/>
              <a:ext cx="1630440" cy="163008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89480" y="1397160"/>
              <a:ext cx="1335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’s comput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72920" y="4505400"/>
              <a:ext cx="823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11800" y="467820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70680" y="1825560"/>
              <a:ext cx="1131840" cy="1131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84320" y="193680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42000" y="5067360"/>
              <a:ext cx="75960" cy="154080"/>
            </a:xfrm>
            <a:custGeom>
              <a:avLst/>
              <a:gdLst/>
              <a:ahLst/>
              <a:rect l="l" t="t" r="r" b="b"/>
              <a:pathLst>
                <a:path w="48" h="97">
                  <a:moveTo>
                    <a:pt x="24" y="97"/>
                  </a:moveTo>
                  <a:lnTo>
                    <a:pt x="0" y="97"/>
                  </a:lnTo>
                  <a:lnTo>
                    <a:pt x="24" y="0"/>
                  </a:lnTo>
                  <a:lnTo>
                    <a:pt x="48" y="97"/>
                  </a:lnTo>
                  <a:lnTo>
                    <a:pt x="24" y="97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9800" y="5221440"/>
              <a:ext cx="1800" cy="67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79800" y="1960560"/>
              <a:ext cx="76320" cy="954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4" y="0"/>
                  </a:moveTo>
                  <a:lnTo>
                    <a:pt x="48" y="0"/>
                  </a:lnTo>
                  <a:lnTo>
                    <a:pt x="24" y="60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917960" y="140652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928760" y="559260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28760" y="5784840"/>
              <a:ext cx="494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23800" y="137304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23800" y="1565280"/>
              <a:ext cx="494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80800" y="2473200"/>
              <a:ext cx="823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78520" y="26463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68400" y="1825560"/>
              <a:ext cx="1131840" cy="1131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99600" y="194940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92440" y="4414680"/>
              <a:ext cx="1322280" cy="1229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02960" y="507060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18400" y="4338720"/>
              <a:ext cx="1322280" cy="1226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73440" y="531828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89320" y="193824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98680" y="25257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30920" y="193824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33800" y="262260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08040" y="484992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40280" y="500220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59360" y="420372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79400" y="34257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61600" y="1397160"/>
              <a:ext cx="1335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’s comput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955200" y="3951360"/>
              <a:ext cx="1335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’s comput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9040" y="3897360"/>
              <a:ext cx="1335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aler’s comput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55680" y="2093760"/>
              <a:ext cx="268560" cy="384480"/>
            </a:xfrm>
            <a:custGeom>
              <a:avLst/>
              <a:gdLst>
                <a:gd name="textAreaLeft" fmla="*/ 23760 w 268560"/>
                <a:gd name="textAreaRight" fmla="*/ 244800 w 268560"/>
                <a:gd name="textAreaTop" fmla="*/ 23760 h 384480"/>
                <a:gd name="textAreaBottom" fmla="*/ 360720 h 384480"/>
              </a:gdLst>
              <a:ahLst/>
              <a:rect l="textAreaLeft" t="textAreaTop" r="textAreaRight" b="textAreaBottom"/>
              <a:pathLst>
                <a:path w="21600" h="30911">
                  <a:moveTo>
                    <a:pt x="6518" y="0"/>
                  </a:moveTo>
                  <a:arcTo wR="6518" hR="6518" stAng="16200000" swAng="-5400000"/>
                  <a:lnTo>
                    <a:pt x="0" y="24393"/>
                  </a:lnTo>
                  <a:arcTo wR="6518" hR="6518" stAng="10800000" swAng="-5400000"/>
                  <a:lnTo>
                    <a:pt x="15082" y="30911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55680" y="2093760"/>
              <a:ext cx="289080" cy="403200"/>
            </a:xfrm>
            <a:custGeom>
              <a:avLst/>
              <a:gdLst>
                <a:gd name="textAreaLeft" fmla="*/ 23400 w 289080"/>
                <a:gd name="textAreaRight" fmla="*/ 265680 w 2890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116">
                  <a:moveTo>
                    <a:pt x="6053" y="0"/>
                  </a:moveTo>
                  <a:arcTo wR="6053" hR="6053" stAng="16200000" swAng="-5400000"/>
                  <a:lnTo>
                    <a:pt x="0" y="24063"/>
                  </a:lnTo>
                  <a:arcTo wR="6053" hR="6053" stAng="10800000" swAng="-5400000"/>
                  <a:lnTo>
                    <a:pt x="15547" y="30116"/>
                  </a:lnTo>
                  <a:arcTo wR="6053" hR="6053" stAng="5400000" swAng="-5400000"/>
                  <a:lnTo>
                    <a:pt x="21600" y="6053"/>
                  </a:lnTo>
                  <a:arcTo wR="6053" hR="6053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74760" y="2093760"/>
              <a:ext cx="24948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74760" y="2093760"/>
              <a:ext cx="270000" cy="21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55680" y="2093760"/>
              <a:ext cx="289080" cy="403200"/>
            </a:xfrm>
            <a:custGeom>
              <a:avLst/>
              <a:gdLst>
                <a:gd name="textAreaLeft" fmla="*/ 23400 w 289080"/>
                <a:gd name="textAreaRight" fmla="*/ 265680 w 2890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116">
                  <a:moveTo>
                    <a:pt x="6053" y="0"/>
                  </a:moveTo>
                  <a:arcTo wR="6053" hR="6053" stAng="16200000" swAng="-5400000"/>
                  <a:lnTo>
                    <a:pt x="0" y="24063"/>
                  </a:lnTo>
                  <a:arcTo wR="6053" hR="6053" stAng="10800000" swAng="-5400000"/>
                  <a:lnTo>
                    <a:pt x="15547" y="30116"/>
                  </a:lnTo>
                  <a:arcTo wR="6053" hR="6053" stAng="5400000" swAng="-5400000"/>
                  <a:lnTo>
                    <a:pt x="21600" y="6053"/>
                  </a:lnTo>
                  <a:arcTo wR="6053" hR="6053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55680" y="2286000"/>
              <a:ext cx="268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02000" y="2401920"/>
              <a:ext cx="249120" cy="382680"/>
            </a:xfrm>
            <a:custGeom>
              <a:avLst/>
              <a:gdLst>
                <a:gd name="textAreaLeft" fmla="*/ 23400 w 249120"/>
                <a:gd name="textAreaRight" fmla="*/ 225720 w 249120"/>
                <a:gd name="textAreaTop" fmla="*/ 23400 h 382680"/>
                <a:gd name="textAreaBottom" fmla="*/ 359280 h 382680"/>
              </a:gdLst>
              <a:ahLst/>
              <a:rect l="textAreaLeft" t="textAreaTop" r="textAreaRight" b="textAreaBottom"/>
              <a:pathLst>
                <a:path w="21600" h="33164">
                  <a:moveTo>
                    <a:pt x="7017" y="0"/>
                  </a:moveTo>
                  <a:arcTo wR="7017" hR="7017" stAng="16200000" swAng="-5400000"/>
                  <a:lnTo>
                    <a:pt x="0" y="26147"/>
                  </a:lnTo>
                  <a:arcTo wR="7017" hR="7017" stAng="10800000" swAng="-5400000"/>
                  <a:lnTo>
                    <a:pt x="14583" y="33164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02000" y="2401920"/>
              <a:ext cx="268200" cy="40176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1760"/>
                <a:gd name="textAreaBottom" fmla="*/ 378360 h 401760"/>
              </a:gdLst>
              <a:ahLst/>
              <a:rect l="textAreaLeft" t="textAreaTop" r="textAreaRight" b="textAreaBottom"/>
              <a:pathLst>
                <a:path w="21600" h="32342">
                  <a:moveTo>
                    <a:pt x="6518" y="0"/>
                  </a:moveTo>
                  <a:arcTo wR="6518" hR="6518" stAng="16200000" swAng="-5400000"/>
                  <a:lnTo>
                    <a:pt x="0" y="25824"/>
                  </a:lnTo>
                  <a:arcTo wR="6518" hR="6518" stAng="10800000" swAng="-5400000"/>
                  <a:lnTo>
                    <a:pt x="15082" y="32342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02000" y="2401920"/>
              <a:ext cx="24912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02000" y="2401920"/>
              <a:ext cx="268200" cy="210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02000" y="2401920"/>
              <a:ext cx="268200" cy="40176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1760"/>
                <a:gd name="textAreaBottom" fmla="*/ 378360 h 401760"/>
              </a:gdLst>
              <a:ahLst/>
              <a:rect l="textAreaLeft" t="textAreaTop" r="textAreaRight" b="textAreaBottom"/>
              <a:pathLst>
                <a:path w="21600" h="32342">
                  <a:moveTo>
                    <a:pt x="6518" y="0"/>
                  </a:moveTo>
                  <a:arcTo wR="6518" hR="6518" stAng="16200000" swAng="-5400000"/>
                  <a:lnTo>
                    <a:pt x="0" y="25824"/>
                  </a:lnTo>
                  <a:arcTo wR="6518" hR="6518" stAng="10800000" swAng="-5400000"/>
                  <a:lnTo>
                    <a:pt x="15082" y="32342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02000" y="2592360"/>
              <a:ext cx="249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746600" y="2765520"/>
              <a:ext cx="268200" cy="38412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384120"/>
                <a:gd name="textAreaBottom" fmla="*/ 360720 h 384120"/>
              </a:gdLst>
              <a:ahLst/>
              <a:rect l="textAreaLeft" t="textAreaTop" r="textAreaRight" b="textAreaBottom"/>
              <a:pathLst>
                <a:path w="21600" h="30923">
                  <a:moveTo>
                    <a:pt x="6518" y="0"/>
                  </a:moveTo>
                  <a:arcTo wR="6518" hR="6518" stAng="16200000" swAng="-5400000"/>
                  <a:lnTo>
                    <a:pt x="0" y="24405"/>
                  </a:lnTo>
                  <a:arcTo wR="6518" hR="6518" stAng="10800000" swAng="-5400000"/>
                  <a:lnTo>
                    <a:pt x="15082" y="30923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746600" y="2765520"/>
              <a:ext cx="287280" cy="40320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305">
                  <a:moveTo>
                    <a:pt x="6086" y="0"/>
                  </a:moveTo>
                  <a:arcTo wR="6086" hR="6086" stAng="16200000" swAng="-5400000"/>
                  <a:lnTo>
                    <a:pt x="0" y="24219"/>
                  </a:lnTo>
                  <a:arcTo wR="6086" hR="6086" stAng="10800000" swAng="-5400000"/>
                  <a:lnTo>
                    <a:pt x="15514" y="30305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65680" y="2765520"/>
              <a:ext cx="249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65680" y="2765520"/>
              <a:ext cx="268200" cy="210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46600" y="2765520"/>
              <a:ext cx="287280" cy="40320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305">
                  <a:moveTo>
                    <a:pt x="6086" y="0"/>
                  </a:moveTo>
                  <a:arcTo wR="6086" hR="6086" stAng="16200000" swAng="-5400000"/>
                  <a:lnTo>
                    <a:pt x="0" y="24219"/>
                  </a:lnTo>
                  <a:arcTo wR="6086" hR="6086" stAng="10800000" swAng="-5400000"/>
                  <a:lnTo>
                    <a:pt x="15514" y="30305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46600" y="2957400"/>
              <a:ext cx="268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62480" y="2362320"/>
              <a:ext cx="249120" cy="384120"/>
            </a:xfrm>
            <a:custGeom>
              <a:avLst/>
              <a:gdLst>
                <a:gd name="textAreaLeft" fmla="*/ 23400 w 249120"/>
                <a:gd name="textAreaRight" fmla="*/ 225720 w 249120"/>
                <a:gd name="textAreaTop" fmla="*/ 23400 h 384120"/>
                <a:gd name="textAreaBottom" fmla="*/ 360720 h 384120"/>
              </a:gdLst>
              <a:ahLst/>
              <a:rect l="textAreaLeft" t="textAreaTop" r="textAreaRight" b="textAreaBottom"/>
              <a:pathLst>
                <a:path w="21600" h="33288">
                  <a:moveTo>
                    <a:pt x="7017" y="0"/>
                  </a:moveTo>
                  <a:arcTo wR="7017" hR="7017" stAng="16200000" swAng="-5400000"/>
                  <a:lnTo>
                    <a:pt x="0" y="26271"/>
                  </a:lnTo>
                  <a:arcTo wR="7017" hR="7017" stAng="10800000" swAng="-5400000"/>
                  <a:lnTo>
                    <a:pt x="14583" y="33288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62480" y="236232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62480" y="2362320"/>
              <a:ext cx="249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62480" y="2362320"/>
              <a:ext cx="268200" cy="210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62480" y="236232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62480" y="2554200"/>
              <a:ext cx="2491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33880" y="1998720"/>
              <a:ext cx="268200" cy="38412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384120"/>
                <a:gd name="textAreaBottom" fmla="*/ 360720 h 384120"/>
              </a:gdLst>
              <a:ahLst/>
              <a:rect l="textAreaLeft" t="textAreaTop" r="textAreaRight" b="textAreaBottom"/>
              <a:pathLst>
                <a:path w="21600" h="30923">
                  <a:moveTo>
                    <a:pt x="6518" y="0"/>
                  </a:moveTo>
                  <a:arcTo wR="6518" hR="6518" stAng="16200000" swAng="-5400000"/>
                  <a:lnTo>
                    <a:pt x="0" y="24405"/>
                  </a:lnTo>
                  <a:arcTo wR="6518" hR="6518" stAng="10800000" swAng="-5400000"/>
                  <a:lnTo>
                    <a:pt x="15082" y="30923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33880" y="1998720"/>
              <a:ext cx="287280" cy="40320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305">
                  <a:moveTo>
                    <a:pt x="6086" y="0"/>
                  </a:moveTo>
                  <a:arcTo wR="6086" hR="6086" stAng="16200000" swAng="-5400000"/>
                  <a:lnTo>
                    <a:pt x="0" y="24219"/>
                  </a:lnTo>
                  <a:arcTo wR="6086" hR="6086" stAng="10800000" swAng="-5400000"/>
                  <a:lnTo>
                    <a:pt x="15514" y="30305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52960" y="1998720"/>
              <a:ext cx="249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52960" y="1998720"/>
              <a:ext cx="268200" cy="210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33880" y="1998720"/>
              <a:ext cx="287280" cy="40320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305">
                  <a:moveTo>
                    <a:pt x="6086" y="0"/>
                  </a:moveTo>
                  <a:arcTo wR="6086" hR="6086" stAng="16200000" swAng="-5400000"/>
                  <a:lnTo>
                    <a:pt x="0" y="24219"/>
                  </a:lnTo>
                  <a:arcTo wR="6086" hR="6086" stAng="10800000" swAng="-5400000"/>
                  <a:lnTo>
                    <a:pt x="15514" y="30305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33880" y="2190600"/>
              <a:ext cx="268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92960" y="4452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12" y="12"/>
                  </a:moveTo>
                  <a:lnTo>
                    <a:pt x="24" y="0"/>
                  </a:lnTo>
                  <a:lnTo>
                    <a:pt x="73" y="61"/>
                  </a:lnTo>
                  <a:lnTo>
                    <a:pt x="0" y="37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37040" y="2919240"/>
              <a:ext cx="2475000" cy="15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27440" y="4492800"/>
              <a:ext cx="115920" cy="9504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61" y="12"/>
                  </a:moveTo>
                  <a:lnTo>
                    <a:pt x="73" y="36"/>
                  </a:lnTo>
                  <a:lnTo>
                    <a:pt x="0" y="60"/>
                  </a:lnTo>
                  <a:lnTo>
                    <a:pt x="36" y="0"/>
                  </a:lnTo>
                  <a:lnTo>
                    <a:pt x="61" y="1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924280" y="2919240"/>
              <a:ext cx="189864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70200" y="2496960"/>
              <a:ext cx="114120" cy="572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24"/>
                  </a:moveTo>
                  <a:lnTo>
                    <a:pt x="72" y="36"/>
                  </a:lnTo>
                  <a:lnTo>
                    <a:pt x="0" y="24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904840" y="2459160"/>
              <a:ext cx="1571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412040" y="2612880"/>
              <a:ext cx="115920" cy="7632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0" y="24"/>
                  </a:moveTo>
                  <a:lnTo>
                    <a:pt x="0" y="0"/>
                  </a:lnTo>
                  <a:lnTo>
                    <a:pt x="73" y="24"/>
                  </a:lnTo>
                  <a:lnTo>
                    <a:pt x="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60840" y="2428920"/>
              <a:ext cx="2832120" cy="22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09760" y="454968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60" y="12"/>
                  </a:moveTo>
                  <a:lnTo>
                    <a:pt x="72" y="24"/>
                  </a:lnTo>
                  <a:lnTo>
                    <a:pt x="0" y="60"/>
                  </a:lnTo>
                  <a:lnTo>
                    <a:pt x="36" y="0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405160" y="2516040"/>
              <a:ext cx="2071440" cy="205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44760" y="2152800"/>
              <a:ext cx="114120" cy="7596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72" y="24"/>
                  </a:moveTo>
                  <a:lnTo>
                    <a:pt x="72" y="48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577960" y="2093760"/>
              <a:ext cx="2532240" cy="9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4760" y="2171880"/>
              <a:ext cx="133200" cy="56880"/>
            </a:xfrm>
            <a:custGeom>
              <a:avLst/>
              <a:gdLst/>
              <a:ahLst/>
              <a:rect l="l" t="t" r="r" b="b"/>
              <a:pathLst>
                <a:path w="84" h="36">
                  <a:moveTo>
                    <a:pt x="0" y="24"/>
                  </a:moveTo>
                  <a:lnTo>
                    <a:pt x="0" y="0"/>
                  </a:lnTo>
                  <a:lnTo>
                    <a:pt x="84" y="24"/>
                  </a:lnTo>
                  <a:lnTo>
                    <a:pt x="0" y="3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26120" y="2093760"/>
              <a:ext cx="1898640" cy="1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57960" y="2131920"/>
              <a:ext cx="270000" cy="384120"/>
            </a:xfrm>
            <a:custGeom>
              <a:avLst/>
              <a:gdLst>
                <a:gd name="textAreaLeft" fmla="*/ 23400 w 270000"/>
                <a:gd name="textAreaRight" fmla="*/ 246600 w 270000"/>
                <a:gd name="textAreaTop" fmla="*/ 23400 h 384120"/>
                <a:gd name="textAreaBottom" fmla="*/ 360720 h 384120"/>
              </a:gdLst>
              <a:ahLst/>
              <a:rect l="textAreaLeft" t="textAreaTop" r="textAreaRight" b="textAreaBottom"/>
              <a:pathLst>
                <a:path w="21600" h="30717">
                  <a:moveTo>
                    <a:pt x="6480" y="0"/>
                  </a:moveTo>
                  <a:arcTo wR="6480" hR="6480" stAng="16200000" swAng="-5400000"/>
                  <a:lnTo>
                    <a:pt x="0" y="24237"/>
                  </a:lnTo>
                  <a:arcTo wR="6480" hR="6480" stAng="10800000" swAng="-5400000"/>
                  <a:lnTo>
                    <a:pt x="15120" y="30717"/>
                  </a:lnTo>
                  <a:arcTo wR="6480" hR="6480" stAng="5400000" swAng="-5400000"/>
                  <a:lnTo>
                    <a:pt x="21600" y="6480"/>
                  </a:lnTo>
                  <a:arcTo wR="6480" hR="648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57960" y="2131920"/>
              <a:ext cx="289080" cy="403200"/>
            </a:xfrm>
            <a:custGeom>
              <a:avLst/>
              <a:gdLst>
                <a:gd name="textAreaLeft" fmla="*/ 23400 w 289080"/>
                <a:gd name="textAreaRight" fmla="*/ 265680 w 2890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116">
                  <a:moveTo>
                    <a:pt x="6053" y="0"/>
                  </a:moveTo>
                  <a:arcTo wR="6053" hR="6053" stAng="16200000" swAng="-5400000"/>
                  <a:lnTo>
                    <a:pt x="0" y="24063"/>
                  </a:lnTo>
                  <a:arcTo wR="6053" hR="6053" stAng="10800000" swAng="-5400000"/>
                  <a:lnTo>
                    <a:pt x="15547" y="30116"/>
                  </a:lnTo>
                  <a:arcTo wR="6053" hR="6053" stAng="5400000" swAng="-5400000"/>
                  <a:lnTo>
                    <a:pt x="21600" y="6053"/>
                  </a:lnTo>
                  <a:arcTo wR="6053" hR="6053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57960" y="2131920"/>
              <a:ext cx="27000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257960" y="2131920"/>
              <a:ext cx="289080" cy="21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57960" y="2131920"/>
              <a:ext cx="289080" cy="403200"/>
            </a:xfrm>
            <a:custGeom>
              <a:avLst/>
              <a:gdLst>
                <a:gd name="textAreaLeft" fmla="*/ 23400 w 289080"/>
                <a:gd name="textAreaRight" fmla="*/ 265680 w 2890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116">
                  <a:moveTo>
                    <a:pt x="6053" y="0"/>
                  </a:moveTo>
                  <a:arcTo wR="6053" hR="6053" stAng="16200000" swAng="-5400000"/>
                  <a:lnTo>
                    <a:pt x="0" y="24063"/>
                  </a:lnTo>
                  <a:arcTo wR="6053" hR="6053" stAng="10800000" swAng="-5400000"/>
                  <a:lnTo>
                    <a:pt x="15547" y="30116"/>
                  </a:lnTo>
                  <a:arcTo wR="6053" hR="6053" stAng="5400000" swAng="-5400000"/>
                  <a:lnTo>
                    <a:pt x="21600" y="6053"/>
                  </a:lnTo>
                  <a:arcTo wR="6053" hR="6053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257960" y="2324160"/>
              <a:ext cx="270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27960" y="2459160"/>
              <a:ext cx="268200" cy="38412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384120"/>
                <a:gd name="textAreaBottom" fmla="*/ 360720 h 384120"/>
              </a:gdLst>
              <a:ahLst/>
              <a:rect l="textAreaLeft" t="textAreaTop" r="textAreaRight" b="textAreaBottom"/>
              <a:pathLst>
                <a:path w="21600" h="30923">
                  <a:moveTo>
                    <a:pt x="6518" y="0"/>
                  </a:moveTo>
                  <a:arcTo wR="6518" hR="6518" stAng="16200000" swAng="-5400000"/>
                  <a:lnTo>
                    <a:pt x="0" y="24405"/>
                  </a:lnTo>
                  <a:arcTo wR="6518" hR="6518" stAng="10800000" swAng="-5400000"/>
                  <a:lnTo>
                    <a:pt x="15082" y="30923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27960" y="2459160"/>
              <a:ext cx="287280" cy="40320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305">
                  <a:moveTo>
                    <a:pt x="6086" y="0"/>
                  </a:moveTo>
                  <a:arcTo wR="6086" hR="6086" stAng="16200000" swAng="-5400000"/>
                  <a:lnTo>
                    <a:pt x="0" y="24219"/>
                  </a:lnTo>
                  <a:arcTo wR="6086" hR="6086" stAng="10800000" swAng="-5400000"/>
                  <a:lnTo>
                    <a:pt x="15514" y="30305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47040" y="2459160"/>
              <a:ext cx="2491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47040" y="2459160"/>
              <a:ext cx="268200" cy="210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27960" y="2459160"/>
              <a:ext cx="287280" cy="40320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0305">
                  <a:moveTo>
                    <a:pt x="6086" y="0"/>
                  </a:moveTo>
                  <a:arcTo wR="6086" hR="6086" stAng="16200000" swAng="-5400000"/>
                  <a:lnTo>
                    <a:pt x="0" y="24219"/>
                  </a:lnTo>
                  <a:arcTo wR="6086" hR="6086" stAng="10800000" swAng="-5400000"/>
                  <a:lnTo>
                    <a:pt x="15514" y="30305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27960" y="2651040"/>
              <a:ext cx="268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08880" y="4433760"/>
              <a:ext cx="249120" cy="384480"/>
            </a:xfrm>
            <a:custGeom>
              <a:avLst/>
              <a:gdLst>
                <a:gd name="textAreaLeft" fmla="*/ 23400 w 249120"/>
                <a:gd name="textAreaRight" fmla="*/ 225720 w 249120"/>
                <a:gd name="textAreaTop" fmla="*/ 23400 h 384480"/>
                <a:gd name="textAreaBottom" fmla="*/ 361080 h 384480"/>
              </a:gdLst>
              <a:ahLst/>
              <a:rect l="textAreaLeft" t="textAreaTop" r="textAreaRight" b="textAreaBottom"/>
              <a:pathLst>
                <a:path w="21600" h="33319">
                  <a:moveTo>
                    <a:pt x="7017" y="0"/>
                  </a:moveTo>
                  <a:arcTo wR="7017" hR="7017" stAng="16200000" swAng="-5400000"/>
                  <a:lnTo>
                    <a:pt x="0" y="26302"/>
                  </a:lnTo>
                  <a:arcTo wR="7017" hR="7017" stAng="10800000" swAng="-5400000"/>
                  <a:lnTo>
                    <a:pt x="14583" y="33319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08880" y="443376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08880" y="4433760"/>
              <a:ext cx="24912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08880" y="4433760"/>
              <a:ext cx="268200" cy="21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08880" y="443376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08880" y="4626000"/>
              <a:ext cx="249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86600" y="4530600"/>
              <a:ext cx="249120" cy="401760"/>
            </a:xfrm>
            <a:custGeom>
              <a:avLst/>
              <a:gdLst>
                <a:gd name="textAreaLeft" fmla="*/ 23400 w 249120"/>
                <a:gd name="textAreaRight" fmla="*/ 225720 w 249120"/>
                <a:gd name="textAreaTop" fmla="*/ 23400 h 401760"/>
                <a:gd name="textAreaBottom" fmla="*/ 378360 h 401760"/>
              </a:gdLst>
              <a:ahLst/>
              <a:rect l="textAreaLeft" t="textAreaTop" r="textAreaRight" b="textAreaBottom"/>
              <a:pathLst>
                <a:path w="21600" h="34816">
                  <a:moveTo>
                    <a:pt x="7017" y="0"/>
                  </a:moveTo>
                  <a:arcTo wR="7017" hR="7017" stAng="16200000" swAng="-5400000"/>
                  <a:lnTo>
                    <a:pt x="0" y="27799"/>
                  </a:lnTo>
                  <a:arcTo wR="7017" hR="7017" stAng="10800000" swAng="-5400000"/>
                  <a:lnTo>
                    <a:pt x="14583" y="34816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86600" y="4530600"/>
              <a:ext cx="268200" cy="42228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22280"/>
                <a:gd name="textAreaBottom" fmla="*/ 398880 h 422280"/>
              </a:gdLst>
              <a:ahLst/>
              <a:rect l="textAreaLeft" t="textAreaTop" r="textAreaRight" b="textAreaBottom"/>
              <a:pathLst>
                <a:path w="21600" h="33992">
                  <a:moveTo>
                    <a:pt x="6518" y="0"/>
                  </a:moveTo>
                  <a:arcTo wR="6518" hR="6518" stAng="16200000" swAng="-5400000"/>
                  <a:lnTo>
                    <a:pt x="0" y="27474"/>
                  </a:lnTo>
                  <a:arcTo wR="6518" hR="6518" stAng="10800000" swAng="-5400000"/>
                  <a:lnTo>
                    <a:pt x="15082" y="33992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086600" y="4549680"/>
              <a:ext cx="24912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086600" y="4549680"/>
              <a:ext cx="268200" cy="1922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86600" y="4530600"/>
              <a:ext cx="268200" cy="42228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22280"/>
                <a:gd name="textAreaBottom" fmla="*/ 398880 h 422280"/>
              </a:gdLst>
              <a:ahLst/>
              <a:rect l="textAreaLeft" t="textAreaTop" r="textAreaRight" b="textAreaBottom"/>
              <a:pathLst>
                <a:path w="21600" h="33992">
                  <a:moveTo>
                    <a:pt x="6518" y="0"/>
                  </a:moveTo>
                  <a:arcTo wR="6518" hR="6518" stAng="16200000" swAng="-5400000"/>
                  <a:lnTo>
                    <a:pt x="0" y="27474"/>
                  </a:lnTo>
                  <a:arcTo wR="6518" hR="6518" stAng="10800000" swAng="-5400000"/>
                  <a:lnTo>
                    <a:pt x="15082" y="33992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86600" y="4741920"/>
              <a:ext cx="249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431120" y="491328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31120" y="4913280"/>
              <a:ext cx="287280" cy="42228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22280"/>
                <a:gd name="textAreaBottom" fmla="*/ 398880 h 422280"/>
              </a:gdLst>
              <a:ahLst/>
              <a:rect l="textAreaLeft" t="textAreaTop" r="textAreaRight" b="textAreaBottom"/>
              <a:pathLst>
                <a:path w="21600" h="31738">
                  <a:moveTo>
                    <a:pt x="6086" y="0"/>
                  </a:moveTo>
                  <a:arcTo wR="6086" hR="6086" stAng="16200000" swAng="-5400000"/>
                  <a:lnTo>
                    <a:pt x="0" y="25652"/>
                  </a:lnTo>
                  <a:arcTo wR="6086" hR="6086" stAng="10800000" swAng="-5400000"/>
                  <a:lnTo>
                    <a:pt x="15514" y="31738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450200" y="4932360"/>
              <a:ext cx="24912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450200" y="4932360"/>
              <a:ext cx="268200" cy="1922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31120" y="4913280"/>
              <a:ext cx="287280" cy="42228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22280"/>
                <a:gd name="textAreaBottom" fmla="*/ 398880 h 422280"/>
              </a:gdLst>
              <a:ahLst/>
              <a:rect l="textAreaLeft" t="textAreaTop" r="textAreaRight" b="textAreaBottom"/>
              <a:pathLst>
                <a:path w="21600" h="31738">
                  <a:moveTo>
                    <a:pt x="6086" y="0"/>
                  </a:moveTo>
                  <a:arcTo wR="6086" hR="6086" stAng="16200000" swAng="-5400000"/>
                  <a:lnTo>
                    <a:pt x="0" y="25652"/>
                  </a:lnTo>
                  <a:arcTo wR="6086" hR="6086" stAng="10800000" swAng="-5400000"/>
                  <a:lnTo>
                    <a:pt x="15514" y="31738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31120" y="5124600"/>
              <a:ext cx="268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26080" y="4070520"/>
              <a:ext cx="250560" cy="382320"/>
            </a:xfrm>
            <a:custGeom>
              <a:avLst/>
              <a:gdLst>
                <a:gd name="textAreaLeft" fmla="*/ 23400 w 250560"/>
                <a:gd name="textAreaRight" fmla="*/ 227160 w 250560"/>
                <a:gd name="textAreaTop" fmla="*/ 23400 h 382320"/>
                <a:gd name="textAreaBottom" fmla="*/ 358920 h 382320"/>
              </a:gdLst>
              <a:ahLst/>
              <a:rect l="textAreaLeft" t="textAreaTop" r="textAreaRight" b="textAreaBottom"/>
              <a:pathLst>
                <a:path w="21600" h="32942">
                  <a:moveTo>
                    <a:pt x="6972" y="0"/>
                  </a:moveTo>
                  <a:arcTo wR="6972" hR="6972" stAng="16200000" swAng="-5400000"/>
                  <a:lnTo>
                    <a:pt x="0" y="25970"/>
                  </a:lnTo>
                  <a:arcTo wR="6972" hR="6972" stAng="10800000" swAng="-5400000"/>
                  <a:lnTo>
                    <a:pt x="14628" y="32942"/>
                  </a:lnTo>
                  <a:arcTo wR="6972" hR="6972" stAng="5400000" swAng="-5400000"/>
                  <a:lnTo>
                    <a:pt x="21600" y="6972"/>
                  </a:lnTo>
                  <a:arcTo wR="6972" hR="697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26080" y="4070520"/>
              <a:ext cx="269640" cy="401400"/>
            </a:xfrm>
            <a:custGeom>
              <a:avLst/>
              <a:gdLst>
                <a:gd name="textAreaLeft" fmla="*/ 23400 w 269640"/>
                <a:gd name="textAreaRight" fmla="*/ 246240 w 269640"/>
                <a:gd name="textAreaTop" fmla="*/ 23400 h 401400"/>
                <a:gd name="textAreaBottom" fmla="*/ 378000 h 401400"/>
              </a:gdLst>
              <a:ahLst/>
              <a:rect l="textAreaLeft" t="textAreaTop" r="textAreaRight" b="textAreaBottom"/>
              <a:pathLst>
                <a:path w="21600" h="32141">
                  <a:moveTo>
                    <a:pt x="6480" y="0"/>
                  </a:moveTo>
                  <a:arcTo wR="6480" hR="6480" stAng="16200000" swAng="-5400000"/>
                  <a:lnTo>
                    <a:pt x="0" y="25661"/>
                  </a:lnTo>
                  <a:arcTo wR="6480" hR="6480" stAng="10800000" swAng="-5400000"/>
                  <a:lnTo>
                    <a:pt x="15120" y="32141"/>
                  </a:lnTo>
                  <a:arcTo wR="6480" hR="6480" stAng="5400000" swAng="-5400000"/>
                  <a:lnTo>
                    <a:pt x="21600" y="6480"/>
                  </a:lnTo>
                  <a:arcTo wR="6480" hR="6480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26080" y="4070520"/>
              <a:ext cx="25056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26080" y="4070520"/>
              <a:ext cx="269640" cy="2109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726080" y="4070520"/>
              <a:ext cx="269640" cy="401400"/>
            </a:xfrm>
            <a:custGeom>
              <a:avLst/>
              <a:gdLst>
                <a:gd name="textAreaLeft" fmla="*/ 23400 w 269640"/>
                <a:gd name="textAreaRight" fmla="*/ 246240 w 269640"/>
                <a:gd name="textAreaTop" fmla="*/ 23400 h 401400"/>
                <a:gd name="textAreaBottom" fmla="*/ 378000 h 401400"/>
              </a:gdLst>
              <a:ahLst/>
              <a:rect l="textAreaLeft" t="textAreaTop" r="textAreaRight" b="textAreaBottom"/>
              <a:pathLst>
                <a:path w="21600" h="32141">
                  <a:moveTo>
                    <a:pt x="6480" y="0"/>
                  </a:moveTo>
                  <a:arcTo wR="6480" hR="6480" stAng="16200000" swAng="-5400000"/>
                  <a:lnTo>
                    <a:pt x="0" y="25661"/>
                  </a:lnTo>
                  <a:arcTo wR="6480" hR="6480" stAng="10800000" swAng="-5400000"/>
                  <a:lnTo>
                    <a:pt x="15120" y="32141"/>
                  </a:lnTo>
                  <a:arcTo wR="6480" hR="6480" stAng="5400000" swAng="-5400000"/>
                  <a:lnTo>
                    <a:pt x="21600" y="6480"/>
                  </a:lnTo>
                  <a:arcTo wR="6480" hR="648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26080" y="4262400"/>
              <a:ext cx="2505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95720" y="4836960"/>
              <a:ext cx="249480" cy="384480"/>
            </a:xfrm>
            <a:custGeom>
              <a:avLst/>
              <a:gdLst>
                <a:gd name="textAreaLeft" fmla="*/ 23760 w 249480"/>
                <a:gd name="textAreaRight" fmla="*/ 225720 w 249480"/>
                <a:gd name="textAreaTop" fmla="*/ 23760 h 384480"/>
                <a:gd name="textAreaBottom" fmla="*/ 360720 h 384480"/>
              </a:gdLst>
              <a:ahLst/>
              <a:rect l="textAreaLeft" t="textAreaTop" r="textAreaRight" b="textAreaBottom"/>
              <a:pathLst>
                <a:path w="21600" h="33271">
                  <a:moveTo>
                    <a:pt x="7017" y="0"/>
                  </a:moveTo>
                  <a:arcTo wR="7017" hR="7017" stAng="16200000" swAng="-5400000"/>
                  <a:lnTo>
                    <a:pt x="0" y="26254"/>
                  </a:lnTo>
                  <a:arcTo wR="7017" hR="7017" stAng="10800000" swAng="-5400000"/>
                  <a:lnTo>
                    <a:pt x="14583" y="33271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95720" y="4836960"/>
              <a:ext cx="268560" cy="403200"/>
            </a:xfrm>
            <a:custGeom>
              <a:avLst/>
              <a:gdLst>
                <a:gd name="textAreaLeft" fmla="*/ 23760 w 268560"/>
                <a:gd name="textAreaRight" fmla="*/ 244800 w 268560"/>
                <a:gd name="textAreaTop" fmla="*/ 23760 h 403200"/>
                <a:gd name="textAreaBottom" fmla="*/ 379440 h 403200"/>
              </a:gdLst>
              <a:ahLst/>
              <a:rect l="textAreaLeft" t="textAreaTop" r="textAreaRight" b="textAreaBottom"/>
              <a:pathLst>
                <a:path w="21600" h="32414">
                  <a:moveTo>
                    <a:pt x="6518" y="0"/>
                  </a:moveTo>
                  <a:arcTo wR="6518" hR="6518" stAng="16200000" swAng="-5400000"/>
                  <a:lnTo>
                    <a:pt x="0" y="25896"/>
                  </a:lnTo>
                  <a:arcTo wR="6518" hR="6518" stAng="10800000" swAng="-5400000"/>
                  <a:lnTo>
                    <a:pt x="15082" y="32414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95720" y="4836960"/>
              <a:ext cx="24948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95720" y="4836960"/>
              <a:ext cx="268560" cy="21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995720" y="4836960"/>
              <a:ext cx="268560" cy="403200"/>
            </a:xfrm>
            <a:custGeom>
              <a:avLst/>
              <a:gdLst>
                <a:gd name="textAreaLeft" fmla="*/ 23760 w 268560"/>
                <a:gd name="textAreaRight" fmla="*/ 244800 w 268560"/>
                <a:gd name="textAreaTop" fmla="*/ 23760 h 403200"/>
                <a:gd name="textAreaBottom" fmla="*/ 379440 h 403200"/>
              </a:gdLst>
              <a:ahLst/>
              <a:rect l="textAreaLeft" t="textAreaTop" r="textAreaRight" b="textAreaBottom"/>
              <a:pathLst>
                <a:path w="21600" h="32414">
                  <a:moveTo>
                    <a:pt x="6518" y="0"/>
                  </a:moveTo>
                  <a:arcTo wR="6518" hR="6518" stAng="16200000" swAng="-5400000"/>
                  <a:lnTo>
                    <a:pt x="0" y="25896"/>
                  </a:lnTo>
                  <a:arcTo wR="6518" hR="6518" stAng="10800000" swAng="-5400000"/>
                  <a:lnTo>
                    <a:pt x="15082" y="32414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95720" y="5029200"/>
              <a:ext cx="24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97560" y="5010120"/>
              <a:ext cx="133560" cy="76320"/>
            </a:xfrm>
            <a:custGeom>
              <a:avLst/>
              <a:gdLst/>
              <a:ahLst/>
              <a:rect l="l" t="t" r="r" b="b"/>
              <a:pathLst>
                <a:path w="84" h="48">
                  <a:moveTo>
                    <a:pt x="0" y="24"/>
                  </a:moveTo>
                  <a:lnTo>
                    <a:pt x="0" y="0"/>
                  </a:lnTo>
                  <a:lnTo>
                    <a:pt x="84" y="24"/>
                  </a:lnTo>
                  <a:lnTo>
                    <a:pt x="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148360" y="4952880"/>
              <a:ext cx="2149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751120" y="5086440"/>
              <a:ext cx="114480" cy="572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24"/>
                  </a:moveTo>
                  <a:lnTo>
                    <a:pt x="72" y="36"/>
                  </a:lnTo>
                  <a:lnTo>
                    <a:pt x="0" y="24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2883960" y="4991040"/>
              <a:ext cx="2149560" cy="1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32520" y="4606920"/>
              <a:ext cx="135000" cy="7632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12" y="24"/>
                  </a:moveTo>
                  <a:lnTo>
                    <a:pt x="12" y="0"/>
                  </a:lnTo>
                  <a:lnTo>
                    <a:pt x="85" y="36"/>
                  </a:lnTo>
                  <a:lnTo>
                    <a:pt x="0" y="4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17960" y="4222800"/>
              <a:ext cx="2014560" cy="42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82920" y="5010120"/>
              <a:ext cx="249120" cy="403200"/>
            </a:xfrm>
            <a:custGeom>
              <a:avLst/>
              <a:gdLst>
                <a:gd name="textAreaLeft" fmla="*/ 23400 w 249120"/>
                <a:gd name="textAreaRight" fmla="*/ 225720 w 24912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4940">
                  <a:moveTo>
                    <a:pt x="7017" y="0"/>
                  </a:moveTo>
                  <a:arcTo wR="7017" hR="7017" stAng="16200000" swAng="-5400000"/>
                  <a:lnTo>
                    <a:pt x="0" y="27923"/>
                  </a:lnTo>
                  <a:arcTo wR="7017" hR="7017" stAng="10800000" swAng="-5400000"/>
                  <a:lnTo>
                    <a:pt x="14583" y="34940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82920" y="5010120"/>
              <a:ext cx="268200" cy="42228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22280"/>
                <a:gd name="textAreaBottom" fmla="*/ 398880 h 422280"/>
              </a:gdLst>
              <a:ahLst/>
              <a:rect l="textAreaLeft" t="textAreaTop" r="textAreaRight" b="textAreaBottom"/>
              <a:pathLst>
                <a:path w="21600" h="33992">
                  <a:moveTo>
                    <a:pt x="6518" y="0"/>
                  </a:moveTo>
                  <a:arcTo wR="6518" hR="6518" stAng="16200000" swAng="-5400000"/>
                  <a:lnTo>
                    <a:pt x="0" y="27474"/>
                  </a:lnTo>
                  <a:arcTo wR="6518" hR="6518" stAng="10800000" swAng="-5400000"/>
                  <a:lnTo>
                    <a:pt x="15082" y="33992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482920" y="5029200"/>
              <a:ext cx="24912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82920" y="5029200"/>
              <a:ext cx="268200" cy="1922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82920" y="5010120"/>
              <a:ext cx="268200" cy="42228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22280"/>
                <a:gd name="textAreaBottom" fmla="*/ 398880 h 422280"/>
              </a:gdLst>
              <a:ahLst/>
              <a:rect l="textAreaLeft" t="textAreaTop" r="textAreaRight" b="textAreaBottom"/>
              <a:pathLst>
                <a:path w="21600" h="33992">
                  <a:moveTo>
                    <a:pt x="6518" y="0"/>
                  </a:moveTo>
                  <a:arcTo wR="6518" hR="6518" stAng="16200000" swAng="-5400000"/>
                  <a:lnTo>
                    <a:pt x="0" y="27474"/>
                  </a:lnTo>
                  <a:arcTo wR="6518" hR="6518" stAng="10800000" swAng="-5400000"/>
                  <a:lnTo>
                    <a:pt x="15082" y="33992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82920" y="5221440"/>
              <a:ext cx="249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40160" y="4530600"/>
              <a:ext cx="268200" cy="38268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382680"/>
                <a:gd name="textAreaBottom" fmla="*/ 359280 h 382680"/>
              </a:gdLst>
              <a:ahLst/>
              <a:rect l="textAreaLeft" t="textAreaTop" r="textAreaRight" b="textAreaBottom"/>
              <a:pathLst>
                <a:path w="21600" h="30808">
                  <a:moveTo>
                    <a:pt x="6518" y="0"/>
                  </a:moveTo>
                  <a:arcTo wR="6518" hR="6518" stAng="16200000" swAng="-5400000"/>
                  <a:lnTo>
                    <a:pt x="0" y="24290"/>
                  </a:lnTo>
                  <a:arcTo wR="6518" hR="6518" stAng="10800000" swAng="-5400000"/>
                  <a:lnTo>
                    <a:pt x="15082" y="3080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40160" y="4530600"/>
              <a:ext cx="287280" cy="40176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1760"/>
                <a:gd name="textAreaBottom" fmla="*/ 378360 h 401760"/>
              </a:gdLst>
              <a:ahLst/>
              <a:rect l="textAreaLeft" t="textAreaTop" r="textAreaRight" b="textAreaBottom"/>
              <a:pathLst>
                <a:path w="21600" h="30197">
                  <a:moveTo>
                    <a:pt x="6086" y="0"/>
                  </a:moveTo>
                  <a:arcTo wR="6086" hR="6086" stAng="16200000" swAng="-5400000"/>
                  <a:lnTo>
                    <a:pt x="0" y="24111"/>
                  </a:lnTo>
                  <a:arcTo wR="6086" hR="6086" stAng="10800000" swAng="-5400000"/>
                  <a:lnTo>
                    <a:pt x="15514" y="30197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58880" y="4530600"/>
              <a:ext cx="24948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58880" y="4530600"/>
              <a:ext cx="268560" cy="21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40160" y="4530600"/>
              <a:ext cx="287280" cy="401760"/>
            </a:xfrm>
            <a:custGeom>
              <a:avLst/>
              <a:gdLst>
                <a:gd name="textAreaLeft" fmla="*/ 23400 w 287280"/>
                <a:gd name="textAreaRight" fmla="*/ 263880 w 287280"/>
                <a:gd name="textAreaTop" fmla="*/ 23400 h 401760"/>
                <a:gd name="textAreaBottom" fmla="*/ 378360 h 401760"/>
              </a:gdLst>
              <a:ahLst/>
              <a:rect l="textAreaLeft" t="textAreaTop" r="textAreaRight" b="textAreaBottom"/>
              <a:pathLst>
                <a:path w="21600" h="30197">
                  <a:moveTo>
                    <a:pt x="6086" y="0"/>
                  </a:moveTo>
                  <a:arcTo wR="6086" hR="6086" stAng="16200000" swAng="-5400000"/>
                  <a:lnTo>
                    <a:pt x="0" y="24111"/>
                  </a:lnTo>
                  <a:arcTo wR="6086" hR="6086" stAng="10800000" swAng="-5400000"/>
                  <a:lnTo>
                    <a:pt x="15514" y="30197"/>
                  </a:lnTo>
                  <a:arcTo wR="6086" hR="6086" stAng="5400000" swAng="-5400000"/>
                  <a:lnTo>
                    <a:pt x="21600" y="6086"/>
                  </a:lnTo>
                  <a:arcTo wR="6086" hR="6086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40160" y="4722840"/>
              <a:ext cx="268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60640" y="4587840"/>
              <a:ext cx="249120" cy="384120"/>
            </a:xfrm>
            <a:custGeom>
              <a:avLst/>
              <a:gdLst>
                <a:gd name="textAreaLeft" fmla="*/ 23400 w 249120"/>
                <a:gd name="textAreaRight" fmla="*/ 225720 w 249120"/>
                <a:gd name="textAreaTop" fmla="*/ 23400 h 384120"/>
                <a:gd name="textAreaBottom" fmla="*/ 360720 h 384120"/>
              </a:gdLst>
              <a:ahLst/>
              <a:rect l="textAreaLeft" t="textAreaTop" r="textAreaRight" b="textAreaBottom"/>
              <a:pathLst>
                <a:path w="21600" h="33288">
                  <a:moveTo>
                    <a:pt x="7017" y="0"/>
                  </a:moveTo>
                  <a:arcTo wR="7017" hR="7017" stAng="16200000" swAng="-5400000"/>
                  <a:lnTo>
                    <a:pt x="0" y="26271"/>
                  </a:lnTo>
                  <a:arcTo wR="7017" hR="7017" stAng="10800000" swAng="-5400000"/>
                  <a:lnTo>
                    <a:pt x="14583" y="33288"/>
                  </a:lnTo>
                  <a:arcTo wR="7017" hR="7017" stAng="5400000" swAng="-5400000"/>
                  <a:lnTo>
                    <a:pt x="21600" y="7017"/>
                  </a:lnTo>
                  <a:arcTo wR="7017" hR="701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60640" y="458784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60640" y="4587840"/>
              <a:ext cx="24912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60640" y="4587840"/>
              <a:ext cx="268200" cy="2113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60640" y="4587840"/>
              <a:ext cx="268200" cy="403200"/>
            </a:xfrm>
            <a:custGeom>
              <a:avLst/>
              <a:gdLst>
                <a:gd name="textAreaLeft" fmla="*/ 23400 w 268200"/>
                <a:gd name="textAreaRight" fmla="*/ 244800 w 268200"/>
                <a:gd name="textAreaTop" fmla="*/ 23400 h 403200"/>
                <a:gd name="textAreaBottom" fmla="*/ 379800 h 403200"/>
              </a:gdLst>
              <a:ahLst/>
              <a:rect l="textAreaLeft" t="textAreaTop" r="textAreaRight" b="textAreaBottom"/>
              <a:pathLst>
                <a:path w="21600" h="32458">
                  <a:moveTo>
                    <a:pt x="6518" y="0"/>
                  </a:moveTo>
                  <a:arcTo wR="6518" hR="6518" stAng="16200000" swAng="-5400000"/>
                  <a:lnTo>
                    <a:pt x="0" y="25940"/>
                  </a:lnTo>
                  <a:arcTo wR="6518" hR="6518" stAng="10800000" swAng="-5400000"/>
                  <a:lnTo>
                    <a:pt x="15082" y="32458"/>
                  </a:lnTo>
                  <a:arcTo wR="6518" hR="6518" stAng="5400000" swAng="-5400000"/>
                  <a:lnTo>
                    <a:pt x="21600" y="6518"/>
                  </a:lnTo>
                  <a:arcTo wR="6518" hR="6518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60640" y="4780080"/>
              <a:ext cx="249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98880" y="36561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222960" y="354168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rchitecture for distributed event notific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725400" y="1488960"/>
            <a:ext cx="8079840" cy="3834000"/>
            <a:chOff x="725400" y="1488960"/>
            <a:chExt cx="8079840" cy="3834000"/>
          </a:xfrm>
        </p:grpSpPr>
        <p:sp>
          <p:nvSpPr>
            <p:cNvPr id="514" name=""/>
            <p:cNvSpPr/>
            <p:nvPr/>
          </p:nvSpPr>
          <p:spPr>
            <a:xfrm>
              <a:off x="7954920" y="3432240"/>
              <a:ext cx="103320" cy="128520"/>
            </a:xfrm>
            <a:custGeom>
              <a:avLst/>
              <a:gdLst/>
              <a:ahLst/>
              <a:rect l="l" t="t" r="r" b="b"/>
              <a:pathLst>
                <a:path w="65" h="81">
                  <a:moveTo>
                    <a:pt x="0" y="32"/>
                  </a:moveTo>
                  <a:lnTo>
                    <a:pt x="0" y="0"/>
                  </a:lnTo>
                  <a:lnTo>
                    <a:pt x="65" y="32"/>
                  </a:lnTo>
                  <a:lnTo>
                    <a:pt x="0" y="8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4959360" y="3484440"/>
              <a:ext cx="3030480" cy="1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806240" y="4168800"/>
              <a:ext cx="99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bscrib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82640" y="416880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bserv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5400" y="4168800"/>
              <a:ext cx="1585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bject of intere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92360" y="45720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32"/>
                  </a:moveTo>
                  <a:lnTo>
                    <a:pt x="0" y="0"/>
                  </a:lnTo>
                  <a:lnTo>
                    <a:pt x="65" y="32"/>
                  </a:lnTo>
                  <a:lnTo>
                    <a:pt x="0" y="6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54200" y="45720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2"/>
                  </a:moveTo>
                  <a:lnTo>
                    <a:pt x="65" y="65"/>
                  </a:lnTo>
                  <a:lnTo>
                    <a:pt x="0" y="32"/>
                  </a:lnTo>
                  <a:lnTo>
                    <a:pt x="65" y="0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1782360" y="4622760"/>
              <a:ext cx="1709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90960" y="3432240"/>
              <a:ext cx="103320" cy="128520"/>
            </a:xfrm>
            <a:custGeom>
              <a:avLst/>
              <a:gdLst/>
              <a:ahLst/>
              <a:rect l="l" t="t" r="r" b="b"/>
              <a:pathLst>
                <a:path w="65" h="81">
                  <a:moveTo>
                    <a:pt x="0" y="32"/>
                  </a:moveTo>
                  <a:lnTo>
                    <a:pt x="0" y="0"/>
                  </a:lnTo>
                  <a:lnTo>
                    <a:pt x="65" y="32"/>
                  </a:lnTo>
                  <a:lnTo>
                    <a:pt x="0" y="8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3103200" y="3484440"/>
              <a:ext cx="1787400" cy="1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65400" y="4467240"/>
              <a:ext cx="336240" cy="519120"/>
            </a:xfrm>
            <a:custGeom>
              <a:avLst/>
              <a:gdLst>
                <a:gd name="textAreaLeft" fmla="*/ 32040 w 336240"/>
                <a:gd name="textAreaRight" fmla="*/ 304200 w 336240"/>
                <a:gd name="textAreaTop" fmla="*/ 32040 h 519120"/>
                <a:gd name="textAreaBottom" fmla="*/ 487080 h 519120"/>
              </a:gdLst>
              <a:ahLst/>
              <a:rect l="textAreaLeft" t="textAreaTop" r="textAreaRight" b="textAreaBottom"/>
              <a:pathLst>
                <a:path w="21600" h="33336">
                  <a:moveTo>
                    <a:pt x="7030" y="0"/>
                  </a:moveTo>
                  <a:arcTo wR="7030" hR="7030" stAng="16200000" swAng="-5400000"/>
                  <a:lnTo>
                    <a:pt x="0" y="26306"/>
                  </a:lnTo>
                  <a:arcTo wR="7030" hR="7030" stAng="10800000" swAng="-5400000"/>
                  <a:lnTo>
                    <a:pt x="14570" y="33336"/>
                  </a:lnTo>
                  <a:arcTo wR="7030" hR="7030" stAng="5400000" swAng="-5400000"/>
                  <a:lnTo>
                    <a:pt x="21600" y="7030"/>
                  </a:lnTo>
                  <a:arcTo wR="7030" hR="703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65400" y="4467240"/>
              <a:ext cx="361800" cy="544320"/>
            </a:xfrm>
            <a:custGeom>
              <a:avLst/>
              <a:gdLst>
                <a:gd name="textAreaLeft" fmla="*/ 32040 w 361800"/>
                <a:gd name="textAreaRight" fmla="*/ 329760 w 361800"/>
                <a:gd name="textAreaTop" fmla="*/ 32040 h 544320"/>
                <a:gd name="textAreaBottom" fmla="*/ 512280 h 544320"/>
              </a:gdLst>
              <a:ahLst/>
              <a:rect l="textAreaLeft" t="textAreaTop" r="textAreaRight" b="textAreaBottom"/>
              <a:pathLst>
                <a:path w="21600" h="32486">
                  <a:moveTo>
                    <a:pt x="6537" y="0"/>
                  </a:moveTo>
                  <a:arcTo wR="6537" hR="6537" stAng="16200000" swAng="-5400000"/>
                  <a:lnTo>
                    <a:pt x="0" y="25949"/>
                  </a:lnTo>
                  <a:arcTo wR="6537" hR="6537" stAng="10800000" swAng="-5400000"/>
                  <a:lnTo>
                    <a:pt x="15063" y="32486"/>
                  </a:lnTo>
                  <a:arcTo wR="6537" hR="6537" stAng="5400000" swAng="-5400000"/>
                  <a:lnTo>
                    <a:pt x="21600" y="6537"/>
                  </a:lnTo>
                  <a:arcTo wR="6537" hR="6537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65400" y="4467240"/>
              <a:ext cx="3362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65400" y="4467240"/>
              <a:ext cx="361800" cy="2858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65400" y="4467240"/>
              <a:ext cx="361800" cy="544320"/>
            </a:xfrm>
            <a:custGeom>
              <a:avLst/>
              <a:gdLst>
                <a:gd name="textAreaLeft" fmla="*/ 32040 w 361800"/>
                <a:gd name="textAreaRight" fmla="*/ 329760 w 361800"/>
                <a:gd name="textAreaTop" fmla="*/ 32040 h 544320"/>
                <a:gd name="textAreaBottom" fmla="*/ 512280 h 544320"/>
              </a:gdLst>
              <a:ahLst/>
              <a:rect l="textAreaLeft" t="textAreaTop" r="textAreaRight" b="textAreaBottom"/>
              <a:pathLst>
                <a:path w="21600" h="32486">
                  <a:moveTo>
                    <a:pt x="6537" y="0"/>
                  </a:moveTo>
                  <a:arcTo wR="6537" hR="6537" stAng="16200000" swAng="-5400000"/>
                  <a:lnTo>
                    <a:pt x="0" y="25949"/>
                  </a:lnTo>
                  <a:arcTo wR="6537" hR="6537" stAng="10800000" swAng="-5400000"/>
                  <a:lnTo>
                    <a:pt x="15063" y="32486"/>
                  </a:lnTo>
                  <a:arcTo wR="6537" hR="6537" stAng="5400000" swAng="-5400000"/>
                  <a:lnTo>
                    <a:pt x="21600" y="6537"/>
                  </a:lnTo>
                  <a:arcTo wR="6537" hR="6537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65400" y="4726080"/>
              <a:ext cx="336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102520" y="3354480"/>
              <a:ext cx="362160" cy="517320"/>
            </a:xfrm>
            <a:custGeom>
              <a:avLst/>
              <a:gdLst>
                <a:gd name="textAreaLeft" fmla="*/ 32040 w 362160"/>
                <a:gd name="textAreaRight" fmla="*/ 330120 w 362160"/>
                <a:gd name="textAreaTop" fmla="*/ 32040 h 517320"/>
                <a:gd name="textAreaBottom" fmla="*/ 485280 h 517320"/>
              </a:gdLst>
              <a:ahLst/>
              <a:rect l="textAreaLeft" t="textAreaTop" r="textAreaRight" b="textAreaBottom"/>
              <a:pathLst>
                <a:path w="21600" h="30845">
                  <a:moveTo>
                    <a:pt x="6537" y="0"/>
                  </a:moveTo>
                  <a:arcTo wR="6537" hR="6537" stAng="16200000" swAng="-5400000"/>
                  <a:lnTo>
                    <a:pt x="0" y="24308"/>
                  </a:lnTo>
                  <a:arcTo wR="6537" hR="6537" stAng="10800000" swAng="-5400000"/>
                  <a:lnTo>
                    <a:pt x="15063" y="30845"/>
                  </a:lnTo>
                  <a:arcTo wR="6537" hR="6537" stAng="5400000" swAng="-5400000"/>
                  <a:lnTo>
                    <a:pt x="21600" y="6537"/>
                  </a:lnTo>
                  <a:arcTo wR="6537" hR="653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102520" y="3354480"/>
              <a:ext cx="387360" cy="542880"/>
            </a:xfrm>
            <a:custGeom>
              <a:avLst/>
              <a:gdLst>
                <a:gd name="textAreaLeft" fmla="*/ 32040 w 387360"/>
                <a:gd name="textAreaRight" fmla="*/ 355320 w 38736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0264">
                  <a:moveTo>
                    <a:pt x="6108" y="0"/>
                  </a:moveTo>
                  <a:arcTo wR="6108" hR="6108" stAng="16200000" swAng="-5400000"/>
                  <a:lnTo>
                    <a:pt x="0" y="24156"/>
                  </a:lnTo>
                  <a:arcTo wR="6108" hR="6108" stAng="10800000" swAng="-5400000"/>
                  <a:lnTo>
                    <a:pt x="15492" y="30264"/>
                  </a:lnTo>
                  <a:arcTo wR="6108" hR="6108" stAng="5400000" swAng="-5400000"/>
                  <a:lnTo>
                    <a:pt x="21600" y="6108"/>
                  </a:lnTo>
                  <a:arcTo wR="6108" hR="6108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128080" y="3354480"/>
              <a:ext cx="33660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128080" y="3354480"/>
              <a:ext cx="361800" cy="2840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102520" y="3354480"/>
              <a:ext cx="387360" cy="542880"/>
            </a:xfrm>
            <a:custGeom>
              <a:avLst/>
              <a:gdLst>
                <a:gd name="textAreaLeft" fmla="*/ 32040 w 387360"/>
                <a:gd name="textAreaRight" fmla="*/ 355320 w 38736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0264">
                  <a:moveTo>
                    <a:pt x="6108" y="0"/>
                  </a:moveTo>
                  <a:arcTo wR="6108" hR="6108" stAng="16200000" swAng="-5400000"/>
                  <a:lnTo>
                    <a:pt x="0" y="24156"/>
                  </a:lnTo>
                  <a:arcTo wR="6108" hR="6108" stAng="10800000" swAng="-5400000"/>
                  <a:lnTo>
                    <a:pt x="15492" y="30264"/>
                  </a:lnTo>
                  <a:arcTo wR="6108" hR="6108" stAng="5400000" swAng="-5400000"/>
                  <a:lnTo>
                    <a:pt x="21600" y="6108"/>
                  </a:lnTo>
                  <a:arcTo wR="6108" hR="610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02520" y="3613320"/>
              <a:ext cx="362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621240" y="4467240"/>
              <a:ext cx="336240" cy="519120"/>
            </a:xfrm>
            <a:custGeom>
              <a:avLst/>
              <a:gdLst>
                <a:gd name="textAreaLeft" fmla="*/ 32040 w 336240"/>
                <a:gd name="textAreaRight" fmla="*/ 304200 w 336240"/>
                <a:gd name="textAreaTop" fmla="*/ 32040 h 519120"/>
                <a:gd name="textAreaBottom" fmla="*/ 487080 h 519120"/>
              </a:gdLst>
              <a:ahLst/>
              <a:rect l="textAreaLeft" t="textAreaTop" r="textAreaRight" b="textAreaBottom"/>
              <a:pathLst>
                <a:path w="21600" h="33336">
                  <a:moveTo>
                    <a:pt x="7030" y="0"/>
                  </a:moveTo>
                  <a:arcTo wR="7030" hR="7030" stAng="16200000" swAng="-5400000"/>
                  <a:lnTo>
                    <a:pt x="0" y="26306"/>
                  </a:lnTo>
                  <a:arcTo wR="7030" hR="7030" stAng="10800000" swAng="-5400000"/>
                  <a:lnTo>
                    <a:pt x="14570" y="33336"/>
                  </a:lnTo>
                  <a:arcTo wR="7030" hR="7030" stAng="5400000" swAng="-5400000"/>
                  <a:lnTo>
                    <a:pt x="21600" y="7030"/>
                  </a:lnTo>
                  <a:arcTo wR="7030" hR="703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621240" y="4467240"/>
              <a:ext cx="363240" cy="544320"/>
            </a:xfrm>
            <a:custGeom>
              <a:avLst/>
              <a:gdLst>
                <a:gd name="textAreaLeft" fmla="*/ 32040 w 363240"/>
                <a:gd name="textAreaRight" fmla="*/ 331200 w 363240"/>
                <a:gd name="textAreaTop" fmla="*/ 32040 h 544320"/>
                <a:gd name="textAreaBottom" fmla="*/ 512280 h 544320"/>
              </a:gdLst>
              <a:ahLst/>
              <a:rect l="textAreaLeft" t="textAreaTop" r="textAreaRight" b="textAreaBottom"/>
              <a:pathLst>
                <a:path w="21600" h="32357">
                  <a:moveTo>
                    <a:pt x="6508" y="0"/>
                  </a:moveTo>
                  <a:arcTo wR="6508" hR="6508" stAng="16200000" swAng="-5400000"/>
                  <a:lnTo>
                    <a:pt x="0" y="25849"/>
                  </a:lnTo>
                  <a:arcTo wR="6508" hR="6508" stAng="10800000" swAng="-5400000"/>
                  <a:lnTo>
                    <a:pt x="15092" y="32357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21240" y="4467240"/>
              <a:ext cx="3362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21240" y="4467240"/>
              <a:ext cx="363240" cy="2858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21240" y="4467240"/>
              <a:ext cx="363240" cy="544320"/>
            </a:xfrm>
            <a:custGeom>
              <a:avLst/>
              <a:gdLst>
                <a:gd name="textAreaLeft" fmla="*/ 32040 w 363240"/>
                <a:gd name="textAreaRight" fmla="*/ 331200 w 363240"/>
                <a:gd name="textAreaTop" fmla="*/ 32040 h 544320"/>
                <a:gd name="textAreaBottom" fmla="*/ 512280 h 544320"/>
              </a:gdLst>
              <a:ahLst/>
              <a:rect l="textAreaLeft" t="textAreaTop" r="textAreaRight" b="textAreaBottom"/>
              <a:pathLst>
                <a:path w="21600" h="32357">
                  <a:moveTo>
                    <a:pt x="6508" y="0"/>
                  </a:moveTo>
                  <a:arcTo wR="6508" hR="6508" stAng="16200000" swAng="-5400000"/>
                  <a:lnTo>
                    <a:pt x="0" y="25849"/>
                  </a:lnTo>
                  <a:arcTo wR="6508" hR="6508" stAng="10800000" swAng="-5400000"/>
                  <a:lnTo>
                    <a:pt x="15092" y="32357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21240" y="4726080"/>
              <a:ext cx="336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19840" y="3354480"/>
              <a:ext cx="336240" cy="517320"/>
            </a:xfrm>
            <a:custGeom>
              <a:avLst/>
              <a:gdLst>
                <a:gd name="textAreaLeft" fmla="*/ 32040 w 336240"/>
                <a:gd name="textAreaRight" fmla="*/ 304200 w 336240"/>
                <a:gd name="textAreaTop" fmla="*/ 32040 h 517320"/>
                <a:gd name="textAreaBottom" fmla="*/ 485280 h 517320"/>
              </a:gdLst>
              <a:ahLst/>
              <a:rect l="textAreaLeft" t="textAreaTop" r="textAreaRight" b="textAreaBottom"/>
              <a:pathLst>
                <a:path w="21600" h="33220">
                  <a:moveTo>
                    <a:pt x="7030" y="0"/>
                  </a:moveTo>
                  <a:arcTo wR="7030" hR="7030" stAng="16200000" swAng="-5400000"/>
                  <a:lnTo>
                    <a:pt x="0" y="26190"/>
                  </a:lnTo>
                  <a:arcTo wR="7030" hR="7030" stAng="10800000" swAng="-5400000"/>
                  <a:lnTo>
                    <a:pt x="14570" y="33220"/>
                  </a:lnTo>
                  <a:arcTo wR="7030" hR="7030" stAng="5400000" swAng="-5400000"/>
                  <a:lnTo>
                    <a:pt x="21600" y="7030"/>
                  </a:lnTo>
                  <a:arcTo wR="7030" hR="703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019840" y="3354480"/>
              <a:ext cx="363240" cy="542880"/>
            </a:xfrm>
            <a:custGeom>
              <a:avLst/>
              <a:gdLst>
                <a:gd name="textAreaLeft" fmla="*/ 32040 w 363240"/>
                <a:gd name="textAreaRight" fmla="*/ 331200 w 36324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2272">
                  <a:moveTo>
                    <a:pt x="6508" y="0"/>
                  </a:moveTo>
                  <a:arcTo wR="6508" hR="6508" stAng="16200000" swAng="-5400000"/>
                  <a:lnTo>
                    <a:pt x="0" y="25764"/>
                  </a:lnTo>
                  <a:arcTo wR="6508" hR="6508" stAng="10800000" swAng="-5400000"/>
                  <a:lnTo>
                    <a:pt x="15092" y="32272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019840" y="3354480"/>
              <a:ext cx="3362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019840" y="3354480"/>
              <a:ext cx="363240" cy="2840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19840" y="3354480"/>
              <a:ext cx="363240" cy="542880"/>
            </a:xfrm>
            <a:custGeom>
              <a:avLst/>
              <a:gdLst>
                <a:gd name="textAreaLeft" fmla="*/ 32040 w 363240"/>
                <a:gd name="textAreaRight" fmla="*/ 331200 w 36324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2272">
                  <a:moveTo>
                    <a:pt x="6508" y="0"/>
                  </a:moveTo>
                  <a:arcTo wR="6508" hR="6508" stAng="16200000" swAng="-5400000"/>
                  <a:lnTo>
                    <a:pt x="0" y="25764"/>
                  </a:lnTo>
                  <a:arcTo wR="6508" hR="6508" stAng="10800000" swAng="-5400000"/>
                  <a:lnTo>
                    <a:pt x="15092" y="32272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19840" y="3613320"/>
              <a:ext cx="336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948040" y="3354480"/>
              <a:ext cx="336600" cy="517320"/>
            </a:xfrm>
            <a:custGeom>
              <a:avLst/>
              <a:gdLst>
                <a:gd name="textAreaLeft" fmla="*/ 32040 w 336600"/>
                <a:gd name="textAreaRight" fmla="*/ 304560 w 336600"/>
                <a:gd name="textAreaTop" fmla="*/ 32040 h 517320"/>
                <a:gd name="textAreaBottom" fmla="*/ 485280 h 517320"/>
              </a:gdLst>
              <a:ahLst/>
              <a:rect l="textAreaLeft" t="textAreaTop" r="textAreaRight" b="textAreaBottom"/>
              <a:pathLst>
                <a:path w="21600" h="33185">
                  <a:moveTo>
                    <a:pt x="7030" y="0"/>
                  </a:moveTo>
                  <a:arcTo wR="7030" hR="7030" stAng="16200000" swAng="-5400000"/>
                  <a:lnTo>
                    <a:pt x="0" y="26155"/>
                  </a:lnTo>
                  <a:arcTo wR="7030" hR="7030" stAng="10800000" swAng="-5400000"/>
                  <a:lnTo>
                    <a:pt x="14570" y="33185"/>
                  </a:lnTo>
                  <a:arcTo wR="7030" hR="7030" stAng="5400000" swAng="-5400000"/>
                  <a:lnTo>
                    <a:pt x="21600" y="7030"/>
                  </a:lnTo>
                  <a:arcTo wR="7030" hR="703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48040" y="3354480"/>
              <a:ext cx="363600" cy="542880"/>
            </a:xfrm>
            <a:custGeom>
              <a:avLst/>
              <a:gdLst>
                <a:gd name="textAreaLeft" fmla="*/ 32040 w 363600"/>
                <a:gd name="textAreaRight" fmla="*/ 331560 w 36360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2240">
                  <a:moveTo>
                    <a:pt x="6508" y="0"/>
                  </a:moveTo>
                  <a:arcTo wR="6508" hR="6508" stAng="16200000" swAng="-5400000"/>
                  <a:lnTo>
                    <a:pt x="0" y="25732"/>
                  </a:lnTo>
                  <a:arcTo wR="6508" hR="6508" stAng="10800000" swAng="-5400000"/>
                  <a:lnTo>
                    <a:pt x="15092" y="32240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48040" y="3354480"/>
              <a:ext cx="33660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48040" y="3354480"/>
              <a:ext cx="363600" cy="2840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948040" y="3354480"/>
              <a:ext cx="363600" cy="542880"/>
            </a:xfrm>
            <a:custGeom>
              <a:avLst/>
              <a:gdLst>
                <a:gd name="textAreaLeft" fmla="*/ 32040 w 363600"/>
                <a:gd name="textAreaRight" fmla="*/ 331560 w 36360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2240">
                  <a:moveTo>
                    <a:pt x="6508" y="0"/>
                  </a:moveTo>
                  <a:arcTo wR="6508" hR="6508" stAng="16200000" swAng="-5400000"/>
                  <a:lnTo>
                    <a:pt x="0" y="25732"/>
                  </a:lnTo>
                  <a:arcTo wR="6508" hR="6508" stAng="10800000" swAng="-5400000"/>
                  <a:lnTo>
                    <a:pt x="15092" y="32240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48040" y="3613320"/>
              <a:ext cx="336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352600" y="1488960"/>
              <a:ext cx="3703680" cy="3834000"/>
            </a:xfrm>
            <a:custGeom>
              <a:avLst/>
              <a:gdLst>
                <a:gd name="textAreaLeft" fmla="*/ 138240 w 3703680"/>
                <a:gd name="textAreaRight" fmla="*/ 3565440 w 3703680"/>
                <a:gd name="textAreaTop" fmla="*/ 138240 h 3834000"/>
                <a:gd name="textAreaBottom" fmla="*/ 3695760 h 3834000"/>
              </a:gdLst>
              <a:ahLst/>
              <a:rect l="textAreaLeft" t="textAreaTop" r="textAreaRight" b="textAreaBottom"/>
              <a:pathLst>
                <a:path w="21600" h="22360">
                  <a:moveTo>
                    <a:pt x="2754" y="0"/>
                  </a:moveTo>
                  <a:arcTo wR="2754" hR="2754" stAng="16200000" swAng="-5400000"/>
                  <a:lnTo>
                    <a:pt x="0" y="19606"/>
                  </a:lnTo>
                  <a:arcTo wR="2754" hR="2754" stAng="10800000" swAng="-5400000"/>
                  <a:lnTo>
                    <a:pt x="18846" y="22360"/>
                  </a:lnTo>
                  <a:arcTo wR="2754" hR="2754" stAng="5400000" swAng="-5400000"/>
                  <a:lnTo>
                    <a:pt x="21600" y="2754"/>
                  </a:lnTo>
                  <a:arcTo wR="2754" hR="2754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17760" y="1630440"/>
              <a:ext cx="1299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vent servi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21240" y="2292480"/>
              <a:ext cx="363240" cy="517320"/>
            </a:xfrm>
            <a:custGeom>
              <a:avLst/>
              <a:gdLst>
                <a:gd name="textAreaLeft" fmla="*/ 32040 w 363240"/>
                <a:gd name="textAreaRight" fmla="*/ 331200 w 363240"/>
                <a:gd name="textAreaTop" fmla="*/ 32040 h 517320"/>
                <a:gd name="textAreaBottom" fmla="*/ 485280 h 517320"/>
              </a:gdLst>
              <a:ahLst/>
              <a:rect l="textAreaLeft" t="textAreaTop" r="textAreaRight" b="textAreaBottom"/>
              <a:pathLst>
                <a:path w="21600" h="30753">
                  <a:moveTo>
                    <a:pt x="6508" y="0"/>
                  </a:moveTo>
                  <a:arcTo wR="6508" hR="6508" stAng="16200000" swAng="-5400000"/>
                  <a:lnTo>
                    <a:pt x="0" y="24245"/>
                  </a:lnTo>
                  <a:arcTo wR="6508" hR="6508" stAng="10800000" swAng="-5400000"/>
                  <a:lnTo>
                    <a:pt x="15092" y="30753"/>
                  </a:lnTo>
                  <a:arcTo wR="6508" hR="6508" stAng="5400000" swAng="-5400000"/>
                  <a:lnTo>
                    <a:pt x="21600" y="6508"/>
                  </a:lnTo>
                  <a:arcTo wR="6508" hR="650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21240" y="2292480"/>
              <a:ext cx="388800" cy="542880"/>
            </a:xfrm>
            <a:custGeom>
              <a:avLst/>
              <a:gdLst>
                <a:gd name="textAreaLeft" fmla="*/ 32040 w 388800"/>
                <a:gd name="textAreaRight" fmla="*/ 356760 w 38880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0152">
                  <a:moveTo>
                    <a:pt x="6083" y="0"/>
                  </a:moveTo>
                  <a:arcTo wR="6083" hR="6083" stAng="16200000" swAng="-5400000"/>
                  <a:lnTo>
                    <a:pt x="0" y="24069"/>
                  </a:lnTo>
                  <a:arcTo wR="6083" hR="6083" stAng="10800000" swAng="-5400000"/>
                  <a:lnTo>
                    <a:pt x="15517" y="30152"/>
                  </a:lnTo>
                  <a:arcTo wR="6083" hR="6083" stAng="5400000" swAng="-5400000"/>
                  <a:lnTo>
                    <a:pt x="21600" y="6083"/>
                  </a:lnTo>
                  <a:arcTo wR="6083" hR="6083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648240" y="2292480"/>
              <a:ext cx="33624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48240" y="2292480"/>
              <a:ext cx="361800" cy="2840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621240" y="2292480"/>
              <a:ext cx="388800" cy="542880"/>
            </a:xfrm>
            <a:custGeom>
              <a:avLst/>
              <a:gdLst>
                <a:gd name="textAreaLeft" fmla="*/ 32040 w 388800"/>
                <a:gd name="textAreaRight" fmla="*/ 356760 w 38880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0152">
                  <a:moveTo>
                    <a:pt x="6083" y="0"/>
                  </a:moveTo>
                  <a:arcTo wR="6083" hR="6083" stAng="16200000" swAng="-5400000"/>
                  <a:lnTo>
                    <a:pt x="0" y="24069"/>
                  </a:lnTo>
                  <a:arcTo wR="6083" hR="6083" stAng="10800000" swAng="-5400000"/>
                  <a:lnTo>
                    <a:pt x="15517" y="30152"/>
                  </a:lnTo>
                  <a:arcTo wR="6083" hR="6083" stAng="5400000" swAng="-5400000"/>
                  <a:lnTo>
                    <a:pt x="21600" y="6083"/>
                  </a:lnTo>
                  <a:arcTo wR="6083" hR="6083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21240" y="2550960"/>
              <a:ext cx="3632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00240" y="2019240"/>
              <a:ext cx="1585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bject of intere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444760" y="3081240"/>
              <a:ext cx="1585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bject of intere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759200" y="3081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bserv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877160" y="242100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0" y="33"/>
                  </a:moveTo>
                  <a:lnTo>
                    <a:pt x="0" y="0"/>
                  </a:lnTo>
                  <a:lnTo>
                    <a:pt x="65" y="33"/>
                  </a:lnTo>
                  <a:lnTo>
                    <a:pt x="0" y="6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4017600" y="2473200"/>
              <a:ext cx="389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024760" y="2292480"/>
              <a:ext cx="362160" cy="517320"/>
            </a:xfrm>
            <a:custGeom>
              <a:avLst/>
              <a:gdLst>
                <a:gd name="textAreaLeft" fmla="*/ 32040 w 362160"/>
                <a:gd name="textAreaRight" fmla="*/ 330120 w 362160"/>
                <a:gd name="textAreaTop" fmla="*/ 32040 h 517320"/>
                <a:gd name="textAreaBottom" fmla="*/ 485280 h 517320"/>
              </a:gdLst>
              <a:ahLst/>
              <a:rect l="textAreaLeft" t="textAreaTop" r="textAreaRight" b="textAreaBottom"/>
              <a:pathLst>
                <a:path w="21600" h="30845">
                  <a:moveTo>
                    <a:pt x="6537" y="0"/>
                  </a:moveTo>
                  <a:arcTo wR="6537" hR="6537" stAng="16200000" swAng="-5400000"/>
                  <a:lnTo>
                    <a:pt x="0" y="24308"/>
                  </a:lnTo>
                  <a:arcTo wR="6537" hR="6537" stAng="10800000" swAng="-5400000"/>
                  <a:lnTo>
                    <a:pt x="15063" y="30845"/>
                  </a:lnTo>
                  <a:arcTo wR="6537" hR="6537" stAng="5400000" swAng="-5400000"/>
                  <a:lnTo>
                    <a:pt x="21600" y="6537"/>
                  </a:lnTo>
                  <a:arcTo wR="6537" hR="653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024760" y="2292480"/>
              <a:ext cx="387360" cy="542880"/>
            </a:xfrm>
            <a:custGeom>
              <a:avLst/>
              <a:gdLst>
                <a:gd name="textAreaLeft" fmla="*/ 32040 w 387360"/>
                <a:gd name="textAreaRight" fmla="*/ 355320 w 38736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0264">
                  <a:moveTo>
                    <a:pt x="6108" y="0"/>
                  </a:moveTo>
                  <a:arcTo wR="6108" hR="6108" stAng="16200000" swAng="-5400000"/>
                  <a:lnTo>
                    <a:pt x="0" y="24156"/>
                  </a:lnTo>
                  <a:arcTo wR="6108" hR="6108" stAng="10800000" swAng="-5400000"/>
                  <a:lnTo>
                    <a:pt x="15492" y="30264"/>
                  </a:lnTo>
                  <a:arcTo wR="6108" hR="6108" stAng="5400000" swAng="-5400000"/>
                  <a:lnTo>
                    <a:pt x="21600" y="6108"/>
                  </a:lnTo>
                  <a:arcTo wR="6108" hR="6108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050320" y="2292480"/>
              <a:ext cx="3366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0320" y="2292480"/>
              <a:ext cx="361800" cy="2840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24760" y="2292480"/>
              <a:ext cx="387360" cy="542880"/>
            </a:xfrm>
            <a:custGeom>
              <a:avLst/>
              <a:gdLst>
                <a:gd name="textAreaLeft" fmla="*/ 32040 w 387360"/>
                <a:gd name="textAreaRight" fmla="*/ 355320 w 387360"/>
                <a:gd name="textAreaTop" fmla="*/ 32040 h 542880"/>
                <a:gd name="textAreaBottom" fmla="*/ 510840 h 542880"/>
              </a:gdLst>
              <a:ahLst/>
              <a:rect l="textAreaLeft" t="textAreaTop" r="textAreaRight" b="textAreaBottom"/>
              <a:pathLst>
                <a:path w="21600" h="30264">
                  <a:moveTo>
                    <a:pt x="6108" y="0"/>
                  </a:moveTo>
                  <a:arcTo wR="6108" hR="6108" stAng="16200000" swAng="-5400000"/>
                  <a:lnTo>
                    <a:pt x="0" y="24156"/>
                  </a:lnTo>
                  <a:arcTo wR="6108" hR="6108" stAng="10800000" swAng="-5400000"/>
                  <a:lnTo>
                    <a:pt x="15492" y="30264"/>
                  </a:lnTo>
                  <a:arcTo wR="6108" hR="6108" stAng="5400000" swAng="-5400000"/>
                  <a:lnTo>
                    <a:pt x="21600" y="6108"/>
                  </a:lnTo>
                  <a:arcTo wR="6108" hR="610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24760" y="2550960"/>
              <a:ext cx="362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945560" y="4572000"/>
              <a:ext cx="77760" cy="103320"/>
            </a:xfrm>
            <a:custGeom>
              <a:avLst/>
              <a:gdLst/>
              <a:ahLst/>
              <a:rect l="l" t="t" r="r" b="b"/>
              <a:pathLst>
                <a:path w="49" h="65">
                  <a:moveTo>
                    <a:pt x="0" y="32"/>
                  </a:moveTo>
                  <a:lnTo>
                    <a:pt x="0" y="0"/>
                  </a:lnTo>
                  <a:lnTo>
                    <a:pt x="49" y="32"/>
                  </a:lnTo>
                  <a:lnTo>
                    <a:pt x="0" y="6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3984480" y="4622760"/>
              <a:ext cx="3988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050320" y="4467240"/>
              <a:ext cx="361800" cy="544320"/>
            </a:xfrm>
            <a:custGeom>
              <a:avLst/>
              <a:gdLst>
                <a:gd name="textAreaLeft" fmla="*/ 32040 w 361800"/>
                <a:gd name="textAreaRight" fmla="*/ 329760 w 361800"/>
                <a:gd name="textAreaTop" fmla="*/ 32040 h 544320"/>
                <a:gd name="textAreaBottom" fmla="*/ 512280 h 544320"/>
              </a:gdLst>
              <a:ahLst/>
              <a:rect l="textAreaLeft" t="textAreaTop" r="textAreaRight" b="textAreaBottom"/>
              <a:pathLst>
                <a:path w="21600" h="32486">
                  <a:moveTo>
                    <a:pt x="6537" y="0"/>
                  </a:moveTo>
                  <a:arcTo wR="6537" hR="6537" stAng="16200000" swAng="-5400000"/>
                  <a:lnTo>
                    <a:pt x="0" y="25949"/>
                  </a:lnTo>
                  <a:arcTo wR="6537" hR="6537" stAng="10800000" swAng="-5400000"/>
                  <a:lnTo>
                    <a:pt x="15063" y="32486"/>
                  </a:lnTo>
                  <a:arcTo wR="6537" hR="6537" stAng="5400000" swAng="-5400000"/>
                  <a:lnTo>
                    <a:pt x="21600" y="6537"/>
                  </a:lnTo>
                  <a:arcTo wR="6537" hR="653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050320" y="4467240"/>
              <a:ext cx="388800" cy="569880"/>
            </a:xfrm>
            <a:custGeom>
              <a:avLst/>
              <a:gdLst>
                <a:gd name="textAreaLeft" fmla="*/ 32040 w 388800"/>
                <a:gd name="textAreaRight" fmla="*/ 356760 w 388800"/>
                <a:gd name="textAreaTop" fmla="*/ 32040 h 569880"/>
                <a:gd name="textAreaBottom" fmla="*/ 537840 h 569880"/>
              </a:gdLst>
              <a:ahLst/>
              <a:rect l="textAreaLeft" t="textAreaTop" r="textAreaRight" b="textAreaBottom"/>
              <a:pathLst>
                <a:path w="21600" h="31651">
                  <a:moveTo>
                    <a:pt x="6083" y="0"/>
                  </a:moveTo>
                  <a:arcTo wR="6083" hR="6083" stAng="16200000" swAng="-5400000"/>
                  <a:lnTo>
                    <a:pt x="0" y="25568"/>
                  </a:lnTo>
                  <a:arcTo wR="6083" hR="6083" stAng="10800000" swAng="-5400000"/>
                  <a:lnTo>
                    <a:pt x="15517" y="31651"/>
                  </a:lnTo>
                  <a:arcTo wR="6083" hR="6083" stAng="5400000" swAng="-5400000"/>
                  <a:lnTo>
                    <a:pt x="21600" y="6083"/>
                  </a:lnTo>
                  <a:arcTo wR="6083" hR="6083" stAng="0" swAng="-5400000"/>
                  <a:close/>
                </a:path>
              </a:pathLst>
            </a:custGeom>
            <a:noFill/>
            <a:ln w="381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050320" y="4494240"/>
              <a:ext cx="361800" cy="23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050320" y="4494240"/>
              <a:ext cx="388800" cy="2588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050320" y="4467240"/>
              <a:ext cx="388800" cy="569880"/>
            </a:xfrm>
            <a:custGeom>
              <a:avLst/>
              <a:gdLst>
                <a:gd name="textAreaLeft" fmla="*/ 32040 w 388800"/>
                <a:gd name="textAreaRight" fmla="*/ 356760 w 388800"/>
                <a:gd name="textAreaTop" fmla="*/ 32040 h 569880"/>
                <a:gd name="textAreaBottom" fmla="*/ 537840 h 569880"/>
              </a:gdLst>
              <a:ahLst/>
              <a:rect l="textAreaLeft" t="textAreaTop" r="textAreaRight" b="textAreaBottom"/>
              <a:pathLst>
                <a:path w="21600" h="31651">
                  <a:moveTo>
                    <a:pt x="6083" y="0"/>
                  </a:moveTo>
                  <a:arcTo wR="6083" hR="6083" stAng="16200000" swAng="-5400000"/>
                  <a:lnTo>
                    <a:pt x="0" y="25568"/>
                  </a:lnTo>
                  <a:arcTo wR="6083" hR="6083" stAng="10800000" swAng="-5400000"/>
                  <a:lnTo>
                    <a:pt x="15517" y="31651"/>
                  </a:lnTo>
                  <a:arcTo wR="6083" hR="6083" stAng="5400000" swAng="-5400000"/>
                  <a:lnTo>
                    <a:pt x="21600" y="6083"/>
                  </a:lnTo>
                  <a:arcTo wR="6083" hR="6083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50320" y="4726080"/>
              <a:ext cx="361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31720" y="1941480"/>
              <a:ext cx="99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bscrib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806240" y="3081240"/>
              <a:ext cx="99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bscrib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7040" y="468792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17880" y="248616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481120" y="3521160"/>
              <a:ext cx="180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666960" y="3598920"/>
              <a:ext cx="103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350040" y="4687920"/>
              <a:ext cx="103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350040" y="3573360"/>
              <a:ext cx="103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50040" y="2563920"/>
              <a:ext cx="1035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5.11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Java Remote interfaces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95600" y="1638360"/>
            <a:ext cx="8562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ublic interface Shape extends Remot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 getVersion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raphicalObject  getAllState() throws RemoteException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ublic interface ShapeList extends Remot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hape newShape(GraphicalObject g) throws RemoteException;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ector allShapes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t getVersion() throws RemoteExce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5.1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Naming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class of Java RMIregist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46200" y="1368360"/>
            <a:ext cx="8582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rebind (String name, Remote obj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thod is used by a server to register the identifier of a remote object by name, as shown in  Figure 15.13, line 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bind (String name, Remote obj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thod can alternatively be used by a server to register a remote object by name, but if the name is already bound to a remote object reference an exception is thr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unbind (String name, Remote obj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thod removes a bin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mote lookup(String name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thod is used by clients to look up a remote object by name, as shown in Figure 15.15  line 1. A remote object reference is retur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ring [] list(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method returns an array of Strings containing the names bound in the regis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5.13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Java class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ListServer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with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main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method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42320" y="1827360"/>
            <a:ext cx="8538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class ShapeListServer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tatic void main(String args[]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setSecurityManager(new RMISecurityManager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peList aShapeList = new ShapeListServant(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aming.rebind("Shape List", aShapeList 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out.println("ShapeList server ready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catch(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out.println("ShapeList server main " + e.getMessage()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5.14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Java class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ListServant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implements interface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67840" y="1500120"/>
            <a:ext cx="9452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server.UnicastRemote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class ShapeListServant extends UnicastRemoteObject implements ShapeLis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rivate Vector theLis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// contains the list of Shape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rivate int ver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hapeListServant()throws RemoteException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hape newShape(GraphicalObject g) throws RemoteException {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ersion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pe s = new ShapeServant( g, version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heList.addElement(s);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turn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 Vector allShapes()throws RemoteException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int getVersion() throws RemoteException { ...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5.15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Java client of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ShapeLis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63000" y="1415880"/>
            <a:ext cx="8538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rmi.server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mport java.util.Vect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class ShapeListClient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ublic static void main(String args[]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ystem.setSecurityManager(new RMISecurityManager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hapeList aShapeList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ShapeList  = (ShapeList) Naming.lookup("//bruno.ShapeList")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ector sList = aShapeList.allShapes()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 catch(RemoteException e) {System.out.println(e.getMessag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catch(Exception e) {System.out.println("Client: " + e.getMessage()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asses supporting Java RMI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969920" y="1830240"/>
            <a:ext cx="6727320" cy="3862800"/>
            <a:chOff x="1969920" y="1830240"/>
            <a:chExt cx="6727320" cy="3862800"/>
          </a:xfrm>
        </p:grpSpPr>
        <p:sp>
          <p:nvSpPr>
            <p:cNvPr id="602" name=""/>
            <p:cNvSpPr/>
            <p:nvPr/>
          </p:nvSpPr>
          <p:spPr>
            <a:xfrm>
              <a:off x="3896640" y="2920680"/>
              <a:ext cx="2210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RemoteServer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682880" y="4095360"/>
              <a:ext cx="3336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UnicastRemoteObject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3341520" y="3380760"/>
              <a:ext cx="723600" cy="638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291720" y="5281200"/>
              <a:ext cx="2405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&lt;servant class&gt;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69920" y="4113000"/>
              <a:ext cx="168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Activatabl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976840" y="1830240"/>
              <a:ext cx="228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RemoteObject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4406760" y="2271240"/>
              <a:ext cx="469440" cy="639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5259240" y="3337920"/>
              <a:ext cx="469440" cy="638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 flipV="1">
              <a:off x="6324480" y="4573080"/>
              <a:ext cx="469440" cy="639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5.1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iddleware lay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85800" y="1996920"/>
            <a:ext cx="8148600" cy="3005280"/>
            <a:chOff x="685800" y="1996920"/>
            <a:chExt cx="8148600" cy="3005280"/>
          </a:xfrm>
        </p:grpSpPr>
        <p:sp>
          <p:nvSpPr>
            <p:cNvPr id="89" name=""/>
            <p:cNvSpPr/>
            <p:nvPr/>
          </p:nvSpPr>
          <p:spPr>
            <a:xfrm>
              <a:off x="7010640" y="2655720"/>
              <a:ext cx="372960" cy="1773360"/>
            </a:xfrm>
            <a:prstGeom prst="rect">
              <a:avLst/>
            </a:prstGeom>
            <a:noFill/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4600" y="2025720"/>
              <a:ext cx="6581520" cy="29480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1996920"/>
              <a:ext cx="6639120" cy="3005280"/>
            </a:xfrm>
            <a:prstGeom prst="rect">
              <a:avLst/>
            </a:prstGeom>
            <a:noFill/>
            <a:ln w="71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4600" y="3313080"/>
              <a:ext cx="6581520" cy="1058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800" y="3284640"/>
              <a:ext cx="6639120" cy="1116000"/>
            </a:xfrm>
            <a:prstGeom prst="rect">
              <a:avLst/>
            </a:prstGeom>
            <a:noFill/>
            <a:ln w="71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95520" y="2211480"/>
              <a:ext cx="1229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69440" y="3298680"/>
              <a:ext cx="1164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iddle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953840" y="3556080"/>
              <a:ext cx="60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y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35360" y="3527280"/>
              <a:ext cx="234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 reply 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02440" y="4014720"/>
              <a:ext cx="286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ernal data repres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11840" y="4557600"/>
              <a:ext cx="182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4600" y="2655720"/>
              <a:ext cx="6581520" cy="657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2627280"/>
              <a:ext cx="6639120" cy="714240"/>
            </a:xfrm>
            <a:prstGeom prst="rect">
              <a:avLst/>
            </a:prstGeom>
            <a:noFill/>
            <a:ln w="71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37240" y="2870280"/>
              <a:ext cx="2208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I, RPC and ev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RBA IDL exampl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9240" y="1720800"/>
            <a:ext cx="531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// In file Person.i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uct Pers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ing nam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ring pl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ng ye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nterface PersonLi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eadonly attribute string list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void addPerson(in Person p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void getPerson(in string name, out Person 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ong numb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mote and local method invocation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60520" y="2487600"/>
            <a:ext cx="8769240" cy="1884240"/>
            <a:chOff x="560520" y="2487600"/>
            <a:chExt cx="8769240" cy="1884240"/>
          </a:xfrm>
        </p:grpSpPr>
        <p:sp>
          <p:nvSpPr>
            <p:cNvPr id="107" name=""/>
            <p:cNvSpPr/>
            <p:nvPr/>
          </p:nvSpPr>
          <p:spPr>
            <a:xfrm>
              <a:off x="5811840" y="2738520"/>
              <a:ext cx="227160" cy="32688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26880"/>
                <a:gd name="textAreaBottom" fmla="*/ 295920 h 326880"/>
              </a:gdLst>
              <a:ahLst/>
              <a:rect l="textAreaLeft" t="textAreaTop" r="textAreaRight" b="textAreaBottom"/>
              <a:pathLst>
                <a:path w="21600" h="31067">
                  <a:moveTo>
                    <a:pt x="10120" y="0"/>
                  </a:moveTo>
                  <a:arcTo wR="10120" hR="10120" stAng="16200000" swAng="-5400000"/>
                  <a:lnTo>
                    <a:pt x="0" y="20947"/>
                  </a:lnTo>
                  <a:arcTo wR="10120" hR="10120" stAng="10800000" swAng="-5400000"/>
                  <a:lnTo>
                    <a:pt x="11480" y="31067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11840" y="27385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37400" y="2738520"/>
              <a:ext cx="20160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37400" y="2738520"/>
              <a:ext cx="225360" cy="2016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11840" y="27385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11840" y="2914560"/>
              <a:ext cx="2271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54480" y="2487600"/>
              <a:ext cx="5075280" cy="1884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05320" y="2587680"/>
              <a:ext cx="2965320" cy="16844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0520" y="2487600"/>
              <a:ext cx="2135160" cy="188424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1080" y="2814480"/>
              <a:ext cx="1710000" cy="12560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31920" y="307656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48200" y="307656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2200" y="28256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96280" y="2814480"/>
              <a:ext cx="1682640" cy="12560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67560" y="337824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34880" y="32018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00400" y="273996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10000" y="301608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70200" y="360360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51440" y="330372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62400" y="388152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34400" y="36050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63360" y="35035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83000" y="27496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05280" y="39304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96800" y="2951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923320" y="34034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90760" y="3165480"/>
              <a:ext cx="225360" cy="32688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26880"/>
                <a:gd name="textAreaBottom" fmla="*/ 295920 h 326880"/>
              </a:gdLst>
              <a:ahLst/>
              <a:rect l="textAreaLeft" t="textAreaTop" r="textAreaRight" b="textAreaBottom"/>
              <a:pathLst>
                <a:path w="21600" h="31315">
                  <a:moveTo>
                    <a:pt x="10192" y="0"/>
                  </a:moveTo>
                  <a:arcTo wR="10192" hR="10192" stAng="16200000" swAng="-5400000"/>
                  <a:lnTo>
                    <a:pt x="0" y="21123"/>
                  </a:lnTo>
                  <a:arcTo wR="10192" hR="10192" stAng="10800000" swAng="-5400000"/>
                  <a:lnTo>
                    <a:pt x="11408" y="31315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90760" y="316548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90760" y="3165480"/>
              <a:ext cx="22536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90760" y="3165480"/>
              <a:ext cx="250560" cy="2016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90760" y="316548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90760" y="3341520"/>
              <a:ext cx="2253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54560" y="3267000"/>
              <a:ext cx="150840" cy="100080"/>
            </a:xfrm>
            <a:custGeom>
              <a:avLst/>
              <a:gdLst/>
              <a:ahLst/>
              <a:rect l="l" t="t" r="r" b="b"/>
              <a:pathLst>
                <a:path w="95" h="63">
                  <a:moveTo>
                    <a:pt x="0" y="31"/>
                  </a:moveTo>
                  <a:lnTo>
                    <a:pt x="16" y="0"/>
                  </a:lnTo>
                  <a:lnTo>
                    <a:pt x="95" y="31"/>
                  </a:lnTo>
                  <a:lnTo>
                    <a:pt x="16" y="6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16040" y="3316320"/>
              <a:ext cx="2763720" cy="101520"/>
            </a:xfrm>
            <a:custGeom>
              <a:avLst/>
              <a:gdLst/>
              <a:ahLst/>
              <a:rect l="l" t="t" r="r" b="b"/>
              <a:pathLst>
                <a:path w="1741" h="64">
                  <a:moveTo>
                    <a:pt x="0" y="64"/>
                  </a:moveTo>
                  <a:lnTo>
                    <a:pt x="506" y="16"/>
                  </a:lnTo>
                  <a:lnTo>
                    <a:pt x="1741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56160" y="3141720"/>
              <a:ext cx="200160" cy="325440"/>
            </a:xfrm>
            <a:custGeom>
              <a:avLst/>
              <a:gdLst>
                <a:gd name="textAreaLeft" fmla="*/ 29160 w 200160"/>
                <a:gd name="textAreaRight" fmla="*/ 171000 w 200160"/>
                <a:gd name="textAreaTop" fmla="*/ 29160 h 325440"/>
                <a:gd name="textAreaBottom" fmla="*/ 296280 h 325440"/>
              </a:gdLst>
              <a:ahLst/>
              <a:rect l="textAreaLeft" t="textAreaTop" r="textAreaRight" b="textAreaBottom"/>
              <a:pathLst>
                <a:path w="21600" h="35095">
                  <a:moveTo>
                    <a:pt x="10800" y="0"/>
                  </a:moveTo>
                  <a:arcTo wR="10800" hR="10800" stAng="16200000" swAng="-5400000"/>
                  <a:lnTo>
                    <a:pt x="0" y="24295"/>
                  </a:lnTo>
                  <a:arcTo wR="10800" hR="10800" stAng="10800000" swAng="-5400000"/>
                  <a:lnTo>
                    <a:pt x="10800" y="3509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56160" y="3141720"/>
              <a:ext cx="225360" cy="35064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589">
                  <a:moveTo>
                    <a:pt x="10192" y="0"/>
                  </a:moveTo>
                  <a:arcTo wR="10192" hR="10192" stAng="16200000" swAng="-5400000"/>
                  <a:lnTo>
                    <a:pt x="0" y="23397"/>
                  </a:lnTo>
                  <a:arcTo wR="10192" hR="10192" stAng="10800000" swAng="-5400000"/>
                  <a:lnTo>
                    <a:pt x="11408" y="33589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56160" y="3141720"/>
              <a:ext cx="20016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56160" y="3141720"/>
              <a:ext cx="225360" cy="1746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56160" y="3141720"/>
              <a:ext cx="225360" cy="35064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589">
                  <a:moveTo>
                    <a:pt x="10192" y="0"/>
                  </a:moveTo>
                  <a:arcTo wR="10192" hR="10192" stAng="16200000" swAng="-5400000"/>
                  <a:lnTo>
                    <a:pt x="0" y="23397"/>
                  </a:lnTo>
                  <a:arcTo wR="10192" hR="10192" stAng="10800000" swAng="-5400000"/>
                  <a:lnTo>
                    <a:pt x="11408" y="33589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56160" y="3292560"/>
              <a:ext cx="2001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86560" y="2863800"/>
              <a:ext cx="150840" cy="76320"/>
            </a:xfrm>
            <a:custGeom>
              <a:avLst/>
              <a:gdLst/>
              <a:ahLst/>
              <a:rect l="l" t="t" r="r" b="b"/>
              <a:pathLst>
                <a:path w="95" h="48">
                  <a:moveTo>
                    <a:pt x="0" y="32"/>
                  </a:moveTo>
                  <a:lnTo>
                    <a:pt x="16" y="0"/>
                  </a:lnTo>
                  <a:lnTo>
                    <a:pt x="95" y="32"/>
                  </a:lnTo>
                  <a:lnTo>
                    <a:pt x="16" y="4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32200" y="2914560"/>
              <a:ext cx="954360" cy="426960"/>
            </a:xfrm>
            <a:custGeom>
              <a:avLst/>
              <a:gdLst/>
              <a:ahLst/>
              <a:rect l="l" t="t" r="r" b="b"/>
              <a:pathLst>
                <a:path w="601" h="269">
                  <a:moveTo>
                    <a:pt x="0" y="269"/>
                  </a:moveTo>
                  <a:lnTo>
                    <a:pt x="47" y="174"/>
                  </a:lnTo>
                  <a:lnTo>
                    <a:pt x="174" y="79"/>
                  </a:lnTo>
                  <a:lnTo>
                    <a:pt x="364" y="32"/>
                  </a:lnTo>
                  <a:lnTo>
                    <a:pt x="601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62600" y="2763720"/>
              <a:ext cx="225360" cy="32724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27240"/>
                <a:gd name="textAreaBottom" fmla="*/ 296280 h 327240"/>
              </a:gdLst>
              <a:ahLst/>
              <a:rect l="textAreaLeft" t="textAreaTop" r="textAreaRight" b="textAreaBottom"/>
              <a:pathLst>
                <a:path w="21600" h="31349">
                  <a:moveTo>
                    <a:pt x="10192" y="0"/>
                  </a:moveTo>
                  <a:arcTo wR="10192" hR="10192" stAng="16200000" swAng="-5400000"/>
                  <a:lnTo>
                    <a:pt x="0" y="21157"/>
                  </a:lnTo>
                  <a:arcTo wR="10192" hR="10192" stAng="10800000" swAng="-5400000"/>
                  <a:lnTo>
                    <a:pt x="11408" y="31349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62600" y="27637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88160" y="2763720"/>
              <a:ext cx="19980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88160" y="2763720"/>
              <a:ext cx="225360" cy="1764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62600" y="2763720"/>
              <a:ext cx="250920" cy="352440"/>
            </a:xfrm>
            <a:custGeom>
              <a:avLst/>
              <a:gdLst>
                <a:gd name="textAreaLeft" fmla="*/ 30960 w 250920"/>
                <a:gd name="textAreaRight" fmla="*/ 219960 w 25092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27">
                  <a:moveTo>
                    <a:pt x="9159" y="0"/>
                  </a:moveTo>
                  <a:arcTo wR="9159" hR="9159" stAng="16200000" swAng="-5400000"/>
                  <a:lnTo>
                    <a:pt x="0" y="21168"/>
                  </a:lnTo>
                  <a:arcTo wR="9159" hR="9159" stAng="10800000" swAng="-5400000"/>
                  <a:lnTo>
                    <a:pt x="12441" y="30327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62600" y="2914560"/>
              <a:ext cx="2253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67640" y="3292560"/>
              <a:ext cx="150840" cy="74520"/>
            </a:xfrm>
            <a:custGeom>
              <a:avLst/>
              <a:gdLst/>
              <a:ahLst/>
              <a:rect l="l" t="t" r="r" b="b"/>
              <a:pathLst>
                <a:path w="95" h="47">
                  <a:moveTo>
                    <a:pt x="0" y="15"/>
                  </a:moveTo>
                  <a:lnTo>
                    <a:pt x="15" y="0"/>
                  </a:lnTo>
                  <a:lnTo>
                    <a:pt x="95" y="15"/>
                  </a:lnTo>
                  <a:lnTo>
                    <a:pt x="15" y="4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11920" y="2965320"/>
              <a:ext cx="855720" cy="351000"/>
            </a:xfrm>
            <a:custGeom>
              <a:avLst/>
              <a:gdLst/>
              <a:ahLst/>
              <a:rect l="l" t="t" r="r" b="b"/>
              <a:pathLst>
                <a:path w="539" h="221">
                  <a:moveTo>
                    <a:pt x="539" y="221"/>
                  </a:moveTo>
                  <a:lnTo>
                    <a:pt x="333" y="206"/>
                  </a:lnTo>
                  <a:lnTo>
                    <a:pt x="159" y="158"/>
                  </a:lnTo>
                  <a:lnTo>
                    <a:pt x="48" y="79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18480" y="3191040"/>
              <a:ext cx="225360" cy="326880"/>
            </a:xfrm>
            <a:custGeom>
              <a:avLst/>
              <a:gdLst>
                <a:gd name="textAreaLeft" fmla="*/ 30960 w 225360"/>
                <a:gd name="textAreaRight" fmla="*/ 194400 w 225360"/>
                <a:gd name="textAreaTop" fmla="*/ 30960 h 326880"/>
                <a:gd name="textAreaBottom" fmla="*/ 295920 h 326880"/>
              </a:gdLst>
              <a:ahLst/>
              <a:rect l="textAreaLeft" t="textAreaTop" r="textAreaRight" b="textAreaBottom"/>
              <a:pathLst>
                <a:path w="21600" h="31315">
                  <a:moveTo>
                    <a:pt x="10192" y="0"/>
                  </a:moveTo>
                  <a:arcTo wR="10192" hR="10192" stAng="16200000" swAng="-5400000"/>
                  <a:lnTo>
                    <a:pt x="0" y="21123"/>
                  </a:lnTo>
                  <a:arcTo wR="10192" hR="10192" stAng="10800000" swAng="-5400000"/>
                  <a:lnTo>
                    <a:pt x="11408" y="31315"/>
                  </a:lnTo>
                  <a:arcTo wR="10192" hR="10192" stAng="5400000" swAng="-5400000"/>
                  <a:lnTo>
                    <a:pt x="21600" y="10192"/>
                  </a:lnTo>
                  <a:arcTo wR="10192" hR="10192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18480" y="319104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18480" y="3191040"/>
              <a:ext cx="225360" cy="15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18480" y="3191040"/>
              <a:ext cx="250560" cy="1760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18480" y="3191040"/>
              <a:ext cx="250560" cy="352440"/>
            </a:xfrm>
            <a:custGeom>
              <a:avLst/>
              <a:gdLst>
                <a:gd name="textAreaLeft" fmla="*/ 30960 w 250560"/>
                <a:gd name="textAreaRight" fmla="*/ 219600 w 250560"/>
                <a:gd name="textAreaTop" fmla="*/ 30960 h 352440"/>
                <a:gd name="textAreaBottom" fmla="*/ 321480 h 352440"/>
              </a:gdLst>
              <a:ahLst/>
              <a:rect l="textAreaLeft" t="textAreaTop" r="textAreaRight" b="textAreaBottom"/>
              <a:pathLst>
                <a:path w="21600" h="30370">
                  <a:moveTo>
                    <a:pt x="9159" y="0"/>
                  </a:moveTo>
                  <a:arcTo wR="9159" hR="9159" stAng="16200000" swAng="-5400000"/>
                  <a:lnTo>
                    <a:pt x="0" y="21211"/>
                  </a:lnTo>
                  <a:arcTo wR="9159" hR="9159" stAng="10800000" swAng="-5400000"/>
                  <a:lnTo>
                    <a:pt x="12441" y="30370"/>
                  </a:lnTo>
                  <a:arcTo wR="9159" hR="9159" stAng="5400000" swAng="-5400000"/>
                  <a:lnTo>
                    <a:pt x="21600" y="9159"/>
                  </a:lnTo>
                  <a:arcTo wR="9159" hR="915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18480" y="3341520"/>
              <a:ext cx="22536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75760" y="3668760"/>
              <a:ext cx="150840" cy="74520"/>
            </a:xfrm>
            <a:custGeom>
              <a:avLst/>
              <a:gdLst/>
              <a:ahLst/>
              <a:rect l="l" t="t" r="r" b="b"/>
              <a:pathLst>
                <a:path w="95" h="47">
                  <a:moveTo>
                    <a:pt x="0" y="32"/>
                  </a:moveTo>
                  <a:lnTo>
                    <a:pt x="16" y="0"/>
                  </a:lnTo>
                  <a:lnTo>
                    <a:pt x="95" y="32"/>
                  </a:lnTo>
                  <a:lnTo>
                    <a:pt x="16" y="47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18280" y="3417840"/>
              <a:ext cx="1257480" cy="301680"/>
            </a:xfrm>
            <a:custGeom>
              <a:avLst/>
              <a:gdLst/>
              <a:ahLst/>
              <a:rect l="l" t="t" r="r" b="b"/>
              <a:pathLst>
                <a:path w="792" h="190">
                  <a:moveTo>
                    <a:pt x="792" y="190"/>
                  </a:moveTo>
                  <a:lnTo>
                    <a:pt x="222" y="126"/>
                  </a:lnTo>
                  <a:lnTo>
                    <a:pt x="64" y="63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38800" y="3719520"/>
              <a:ext cx="227160" cy="32544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25440"/>
                <a:gd name="textAreaBottom" fmla="*/ 294480 h 325440"/>
              </a:gdLst>
              <a:ahLst/>
              <a:rect l="textAreaLeft" t="textAreaTop" r="textAreaRight" b="textAreaBottom"/>
              <a:pathLst>
                <a:path w="21600" h="30930">
                  <a:moveTo>
                    <a:pt x="10120" y="0"/>
                  </a:moveTo>
                  <a:arcTo wR="10120" hR="10120" stAng="16200000" swAng="-5400000"/>
                  <a:lnTo>
                    <a:pt x="0" y="20810"/>
                  </a:lnTo>
                  <a:arcTo wR="10120" hR="10120" stAng="10800000" swAng="-5400000"/>
                  <a:lnTo>
                    <a:pt x="11480" y="30930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38800" y="3719520"/>
              <a:ext cx="252360" cy="351000"/>
            </a:xfrm>
            <a:custGeom>
              <a:avLst/>
              <a:gdLst>
                <a:gd name="textAreaLeft" fmla="*/ 30960 w 252360"/>
                <a:gd name="textAreaRight" fmla="*/ 221400 w 252360"/>
                <a:gd name="textAreaTop" fmla="*/ 30960 h 351000"/>
                <a:gd name="textAreaBottom" fmla="*/ 320040 h 351000"/>
              </a:gdLst>
              <a:ahLst/>
              <a:rect l="textAreaLeft" t="textAreaTop" r="textAreaRight" b="textAreaBottom"/>
              <a:pathLst>
                <a:path w="21600" h="30031">
                  <a:moveTo>
                    <a:pt x="9102" y="0"/>
                  </a:moveTo>
                  <a:arcTo wR="9102" hR="9102" stAng="16200000" swAng="-5400000"/>
                  <a:lnTo>
                    <a:pt x="0" y="20929"/>
                  </a:lnTo>
                  <a:arcTo wR="9102" hR="9102" stAng="10800000" swAng="-5400000"/>
                  <a:lnTo>
                    <a:pt x="12498" y="30031"/>
                  </a:lnTo>
                  <a:arcTo wR="9102" hR="9102" stAng="5400000" swAng="-5400000"/>
                  <a:lnTo>
                    <a:pt x="21600" y="9102"/>
                  </a:lnTo>
                  <a:arcTo wR="9102" hR="9102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4360" y="3719520"/>
              <a:ext cx="20160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64360" y="3719520"/>
              <a:ext cx="226800" cy="20016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38800" y="3719520"/>
              <a:ext cx="252360" cy="351000"/>
            </a:xfrm>
            <a:custGeom>
              <a:avLst/>
              <a:gdLst>
                <a:gd name="textAreaLeft" fmla="*/ 30960 w 252360"/>
                <a:gd name="textAreaRight" fmla="*/ 221400 w 252360"/>
                <a:gd name="textAreaTop" fmla="*/ 30960 h 351000"/>
                <a:gd name="textAreaBottom" fmla="*/ 320040 h 351000"/>
              </a:gdLst>
              <a:ahLst/>
              <a:rect l="textAreaLeft" t="textAreaTop" r="textAreaRight" b="textAreaBottom"/>
              <a:pathLst>
                <a:path w="21600" h="30031">
                  <a:moveTo>
                    <a:pt x="9102" y="0"/>
                  </a:moveTo>
                  <a:arcTo wR="9102" hR="9102" stAng="16200000" swAng="-5400000"/>
                  <a:lnTo>
                    <a:pt x="0" y="20929"/>
                  </a:lnTo>
                  <a:arcTo wR="9102" hR="9102" stAng="10800000" swAng="-5400000"/>
                  <a:lnTo>
                    <a:pt x="12498" y="30031"/>
                  </a:lnTo>
                  <a:arcTo wR="9102" hR="9102" stAng="5400000" swAng="-5400000"/>
                  <a:lnTo>
                    <a:pt x="21600" y="9102"/>
                  </a:lnTo>
                  <a:arcTo wR="9102" hR="9102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38800" y="3894120"/>
              <a:ext cx="2271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32200" y="3417840"/>
              <a:ext cx="7488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15" y="31"/>
                  </a:moveTo>
                  <a:lnTo>
                    <a:pt x="0" y="47"/>
                  </a:lnTo>
                  <a:lnTo>
                    <a:pt x="15" y="0"/>
                  </a:lnTo>
                  <a:lnTo>
                    <a:pt x="47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81520" y="3492360"/>
              <a:ext cx="1508040" cy="427320"/>
            </a:xfrm>
            <a:custGeom>
              <a:avLst/>
              <a:gdLst/>
              <a:ahLst/>
              <a:rect l="l" t="t" r="r" b="b"/>
              <a:pathLst>
                <a:path w="950" h="269">
                  <a:moveTo>
                    <a:pt x="950" y="269"/>
                  </a:moveTo>
                  <a:lnTo>
                    <a:pt x="602" y="253"/>
                  </a:lnTo>
                  <a:lnTo>
                    <a:pt x="301" y="190"/>
                  </a:lnTo>
                  <a:lnTo>
                    <a:pt x="95" y="111"/>
                  </a:lnTo>
                  <a:lnTo>
                    <a:pt x="32" y="63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75560" y="3543480"/>
              <a:ext cx="201600" cy="326880"/>
            </a:xfrm>
            <a:custGeom>
              <a:avLst/>
              <a:gdLst>
                <a:gd name="textAreaLeft" fmla="*/ 29520 w 201600"/>
                <a:gd name="textAreaRight" fmla="*/ 172080 w 201600"/>
                <a:gd name="textAreaTop" fmla="*/ 29520 h 326880"/>
                <a:gd name="textAreaBottom" fmla="*/ 297360 h 326880"/>
              </a:gdLst>
              <a:ahLst/>
              <a:rect l="textAreaLeft" t="textAreaTop" r="textAreaRight" b="textAreaBottom"/>
              <a:pathLst>
                <a:path w="21600" h="34999">
                  <a:moveTo>
                    <a:pt x="10800" y="0"/>
                  </a:moveTo>
                  <a:arcTo wR="10800" hR="10800" stAng="16200000" swAng="-5400000"/>
                  <a:lnTo>
                    <a:pt x="0" y="24199"/>
                  </a:lnTo>
                  <a:arcTo wR="10800" hR="10800" stAng="10800000" swAng="-5400000"/>
                  <a:lnTo>
                    <a:pt x="10800" y="3499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75560" y="3543480"/>
              <a:ext cx="227160" cy="35064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323">
                  <a:moveTo>
                    <a:pt x="10120" y="0"/>
                  </a:moveTo>
                  <a:arcTo wR="10120" hR="10120" stAng="16200000" swAng="-5400000"/>
                  <a:lnTo>
                    <a:pt x="0" y="23203"/>
                  </a:lnTo>
                  <a:arcTo wR="10120" hR="10120" stAng="10800000" swAng="-5400000"/>
                  <a:lnTo>
                    <a:pt x="11480" y="33323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575560" y="3543480"/>
              <a:ext cx="20160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75560" y="3543480"/>
              <a:ext cx="227160" cy="1998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75560" y="3543480"/>
              <a:ext cx="227160" cy="350640"/>
            </a:xfrm>
            <a:custGeom>
              <a:avLst/>
              <a:gdLst>
                <a:gd name="textAreaLeft" fmla="*/ 30960 w 227160"/>
                <a:gd name="textAreaRight" fmla="*/ 196200 w 227160"/>
                <a:gd name="textAreaTop" fmla="*/ 30960 h 350640"/>
                <a:gd name="textAreaBottom" fmla="*/ 319680 h 350640"/>
              </a:gdLst>
              <a:ahLst/>
              <a:rect l="textAreaLeft" t="textAreaTop" r="textAreaRight" b="textAreaBottom"/>
              <a:pathLst>
                <a:path w="21600" h="33323">
                  <a:moveTo>
                    <a:pt x="10120" y="0"/>
                  </a:moveTo>
                  <a:arcTo wR="10120" hR="10120" stAng="16200000" swAng="-5400000"/>
                  <a:lnTo>
                    <a:pt x="0" y="23203"/>
                  </a:lnTo>
                  <a:arcTo wR="10120" hR="10120" stAng="10800000" swAng="-5400000"/>
                  <a:lnTo>
                    <a:pt x="11480" y="33323"/>
                  </a:lnTo>
                  <a:arcTo wR="10120" hR="10120" stAng="5400000" swAng="-5400000"/>
                  <a:lnTo>
                    <a:pt x="21600" y="10120"/>
                  </a:lnTo>
                  <a:arcTo wR="10120" hR="10120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75560" y="3719520"/>
              <a:ext cx="2016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remote object and its remote interfac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09480" y="1920960"/>
            <a:ext cx="8478720" cy="2700360"/>
            <a:chOff x="609480" y="1920960"/>
            <a:chExt cx="8478720" cy="2700360"/>
          </a:xfrm>
        </p:grpSpPr>
        <p:sp>
          <p:nvSpPr>
            <p:cNvPr id="182" name=""/>
            <p:cNvSpPr/>
            <p:nvPr/>
          </p:nvSpPr>
          <p:spPr>
            <a:xfrm>
              <a:off x="8162640" y="2695680"/>
              <a:ext cx="451080" cy="676080"/>
            </a:xfrm>
            <a:custGeom>
              <a:avLst/>
              <a:gdLst>
                <a:gd name="textAreaLeft" fmla="*/ 30960 w 451080"/>
                <a:gd name="textAreaRight" fmla="*/ 420120 w 451080"/>
                <a:gd name="textAreaTop" fmla="*/ 30960 h 676080"/>
                <a:gd name="textAreaBottom" fmla="*/ 645120 h 676080"/>
              </a:gdLst>
              <a:ahLst/>
              <a:rect l="textAreaLeft" t="textAreaTop" r="textAreaRight" b="textAreaBottom"/>
              <a:pathLst>
                <a:path w="21600" h="32366">
                  <a:moveTo>
                    <a:pt x="5058" y="0"/>
                  </a:moveTo>
                  <a:arcTo wR="5058" hR="5058" stAng="16200000" swAng="-5400000"/>
                  <a:lnTo>
                    <a:pt x="0" y="27308"/>
                  </a:lnTo>
                  <a:arcTo wR="5058" hR="5058" stAng="10800000" swAng="-5400000"/>
                  <a:lnTo>
                    <a:pt x="16542" y="32366"/>
                  </a:lnTo>
                  <a:arcTo wR="5058" hR="5058" stAng="5400000" swAng="-5400000"/>
                  <a:lnTo>
                    <a:pt x="21600" y="5058"/>
                  </a:lnTo>
                  <a:arcTo wR="5058" hR="5058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62640" y="2695680"/>
              <a:ext cx="476280" cy="699840"/>
            </a:xfrm>
            <a:custGeom>
              <a:avLst/>
              <a:gdLst>
                <a:gd name="textAreaLeft" fmla="*/ 30600 w 476280"/>
                <a:gd name="textAreaRight" fmla="*/ 445680 w 476280"/>
                <a:gd name="textAreaTop" fmla="*/ 30600 h 699840"/>
                <a:gd name="textAreaBottom" fmla="*/ 669240 h 699840"/>
              </a:gdLst>
              <a:ahLst/>
              <a:rect l="textAreaLeft" t="textAreaTop" r="textAreaRight" b="textAreaBottom"/>
              <a:pathLst>
                <a:path w="21600" h="31731">
                  <a:moveTo>
                    <a:pt x="4788" y="0"/>
                  </a:moveTo>
                  <a:arcTo wR="4788" hR="4788" stAng="16200000" swAng="-5400000"/>
                  <a:lnTo>
                    <a:pt x="0" y="26943"/>
                  </a:lnTo>
                  <a:arcTo wR="4788" hR="4788" stAng="10800000" swAng="-5400000"/>
                  <a:lnTo>
                    <a:pt x="16812" y="31731"/>
                  </a:lnTo>
                  <a:arcTo wR="4788" hR="4788" stAng="5400000" swAng="-5400000"/>
                  <a:lnTo>
                    <a:pt x="21600" y="4788"/>
                  </a:lnTo>
                  <a:arcTo wR="4788" hR="4788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62640" y="2695680"/>
              <a:ext cx="4510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62640" y="2695680"/>
              <a:ext cx="476280" cy="3506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62640" y="2695680"/>
              <a:ext cx="476280" cy="699840"/>
            </a:xfrm>
            <a:custGeom>
              <a:avLst/>
              <a:gdLst>
                <a:gd name="textAreaLeft" fmla="*/ 30600 w 476280"/>
                <a:gd name="textAreaRight" fmla="*/ 445680 w 476280"/>
                <a:gd name="textAreaTop" fmla="*/ 30600 h 699840"/>
                <a:gd name="textAreaBottom" fmla="*/ 669240 h 699840"/>
              </a:gdLst>
              <a:ahLst/>
              <a:rect l="textAreaLeft" t="textAreaTop" r="textAreaRight" b="textAreaBottom"/>
              <a:pathLst>
                <a:path w="21600" h="31731">
                  <a:moveTo>
                    <a:pt x="4788" y="0"/>
                  </a:moveTo>
                  <a:arcTo wR="4788" hR="4788" stAng="16200000" swAng="-5400000"/>
                  <a:lnTo>
                    <a:pt x="0" y="26943"/>
                  </a:lnTo>
                  <a:arcTo wR="4788" hR="4788" stAng="10800000" swAng="-5400000"/>
                  <a:lnTo>
                    <a:pt x="16812" y="31731"/>
                  </a:lnTo>
                  <a:arcTo wR="4788" hR="4788" stAng="5400000" swAng="-5400000"/>
                  <a:lnTo>
                    <a:pt x="21600" y="4788"/>
                  </a:lnTo>
                  <a:arcTo wR="4788" hR="4788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2640" y="3021120"/>
              <a:ext cx="4510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09520" y="2870280"/>
              <a:ext cx="425520" cy="676080"/>
            </a:xfrm>
            <a:custGeom>
              <a:avLst/>
              <a:gdLst>
                <a:gd name="textAreaLeft" fmla="*/ 30600 w 425520"/>
                <a:gd name="textAreaRight" fmla="*/ 394920 w 425520"/>
                <a:gd name="textAreaTop" fmla="*/ 30600 h 676080"/>
                <a:gd name="textAreaBottom" fmla="*/ 645480 h 676080"/>
              </a:gdLst>
              <a:ahLst/>
              <a:rect l="textAreaLeft" t="textAreaTop" r="textAreaRight" b="textAreaBottom"/>
              <a:pathLst>
                <a:path w="21600" h="34308">
                  <a:moveTo>
                    <a:pt x="5360" y="0"/>
                  </a:moveTo>
                  <a:arcTo wR="5360" hR="5360" stAng="16200000" swAng="-5400000"/>
                  <a:lnTo>
                    <a:pt x="0" y="28948"/>
                  </a:lnTo>
                  <a:arcTo wR="5360" hR="5360" stAng="10800000" swAng="-5400000"/>
                  <a:lnTo>
                    <a:pt x="16240" y="34308"/>
                  </a:lnTo>
                  <a:arcTo wR="5360" hR="5360" stAng="5400000" swAng="-5400000"/>
                  <a:lnTo>
                    <a:pt x="21600" y="5360"/>
                  </a:lnTo>
                  <a:arcTo wR="5360" hR="5360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09520" y="2870280"/>
              <a:ext cx="450720" cy="701640"/>
            </a:xfrm>
            <a:custGeom>
              <a:avLst/>
              <a:gdLst>
                <a:gd name="textAreaLeft" fmla="*/ 30600 w 450720"/>
                <a:gd name="textAreaRight" fmla="*/ 420120 w 450720"/>
                <a:gd name="textAreaTop" fmla="*/ 30600 h 701640"/>
                <a:gd name="textAreaBottom" fmla="*/ 671040 h 701640"/>
              </a:gdLst>
              <a:ahLst/>
              <a:rect l="textAreaLeft" t="textAreaTop" r="textAreaRight" b="textAreaBottom"/>
              <a:pathLst>
                <a:path w="21600" h="33615">
                  <a:moveTo>
                    <a:pt x="5058" y="0"/>
                  </a:moveTo>
                  <a:arcTo wR="5058" hR="5058" stAng="16200000" swAng="-5400000"/>
                  <a:lnTo>
                    <a:pt x="0" y="28557"/>
                  </a:lnTo>
                  <a:arcTo wR="5058" hR="5058" stAng="10800000" swAng="-5400000"/>
                  <a:lnTo>
                    <a:pt x="16542" y="33615"/>
                  </a:lnTo>
                  <a:arcTo wR="5058" hR="5058" stAng="5400000" swAng="-5400000"/>
                  <a:lnTo>
                    <a:pt x="21600" y="5058"/>
                  </a:lnTo>
                  <a:arcTo wR="5058" hR="5058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09520" y="2870280"/>
              <a:ext cx="42552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09520" y="2870280"/>
              <a:ext cx="450720" cy="3506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09520" y="2870280"/>
              <a:ext cx="450720" cy="701640"/>
            </a:xfrm>
            <a:custGeom>
              <a:avLst/>
              <a:gdLst>
                <a:gd name="textAreaLeft" fmla="*/ 30600 w 450720"/>
                <a:gd name="textAreaRight" fmla="*/ 420120 w 450720"/>
                <a:gd name="textAreaTop" fmla="*/ 30600 h 701640"/>
                <a:gd name="textAreaBottom" fmla="*/ 671040 h 701640"/>
              </a:gdLst>
              <a:ahLst/>
              <a:rect l="textAreaLeft" t="textAreaTop" r="textAreaRight" b="textAreaBottom"/>
              <a:pathLst>
                <a:path w="21600" h="33615">
                  <a:moveTo>
                    <a:pt x="5058" y="0"/>
                  </a:moveTo>
                  <a:arcTo wR="5058" hR="5058" stAng="16200000" swAng="-5400000"/>
                  <a:lnTo>
                    <a:pt x="0" y="28557"/>
                  </a:lnTo>
                  <a:arcTo wR="5058" hR="5058" stAng="10800000" swAng="-5400000"/>
                  <a:lnTo>
                    <a:pt x="16542" y="33615"/>
                  </a:lnTo>
                  <a:arcTo wR="5058" hR="5058" stAng="5400000" swAng="-5400000"/>
                  <a:lnTo>
                    <a:pt x="21600" y="5058"/>
                  </a:lnTo>
                  <a:arcTo wR="5058" hR="5058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40200" y="3421080"/>
              <a:ext cx="4255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40200" y="3621240"/>
              <a:ext cx="4255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64320" y="3821040"/>
              <a:ext cx="4014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36920" y="2370240"/>
              <a:ext cx="1408320" cy="1776240"/>
            </a:xfrm>
            <a:custGeom>
              <a:avLst/>
              <a:gdLst>
                <a:gd name="textAreaLeft" fmla="*/ 31680 w 1408320"/>
                <a:gd name="textAreaRight" fmla="*/ 1376640 w 1408320"/>
                <a:gd name="textAreaTop" fmla="*/ 31680 h 1776240"/>
                <a:gd name="textAreaBottom" fmla="*/ 1744560 h 1776240"/>
              </a:gdLst>
              <a:ahLst/>
              <a:rect l="textAreaLeft" t="textAreaTop" r="textAreaRight" b="textAreaBottom"/>
              <a:pathLst>
                <a:path w="21600" h="27242">
                  <a:moveTo>
                    <a:pt x="1659" y="0"/>
                  </a:moveTo>
                  <a:arcTo wR="1659" hR="1659" stAng="16200000" swAng="-5400000"/>
                  <a:lnTo>
                    <a:pt x="0" y="25583"/>
                  </a:lnTo>
                  <a:arcTo wR="1659" hR="1659" stAng="10800000" swAng="-5400000"/>
                  <a:lnTo>
                    <a:pt x="19941" y="27242"/>
                  </a:lnTo>
                  <a:arcTo wR="1659" hR="1659" stAng="5400000" swAng="-5400000"/>
                  <a:lnTo>
                    <a:pt x="21600" y="1659"/>
                  </a:lnTo>
                  <a:arcTo wR="1659" hR="1659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36920" y="2370240"/>
              <a:ext cx="1400400" cy="1801800"/>
            </a:xfrm>
            <a:custGeom>
              <a:avLst/>
              <a:gdLst>
                <a:gd name="textAreaLeft" fmla="*/ 30600 w 1400400"/>
                <a:gd name="textAreaRight" fmla="*/ 1369800 w 1400400"/>
                <a:gd name="textAreaTop" fmla="*/ 30600 h 1801800"/>
                <a:gd name="textAreaBottom" fmla="*/ 1771200 h 1801800"/>
              </a:gdLst>
              <a:ahLst/>
              <a:rect l="textAreaLeft" t="textAreaTop" r="textAreaRight" b="textAreaBottom"/>
              <a:pathLst>
                <a:path w="21600" h="27790">
                  <a:moveTo>
                    <a:pt x="1629" y="0"/>
                  </a:moveTo>
                  <a:arcTo wR="1629" hR="1629" stAng="16200000" swAng="-5400000"/>
                  <a:lnTo>
                    <a:pt x="0" y="26161"/>
                  </a:lnTo>
                  <a:arcTo wR="1629" hR="1629" stAng="10800000" swAng="-5400000"/>
                  <a:lnTo>
                    <a:pt x="19971" y="27790"/>
                  </a:lnTo>
                  <a:arcTo wR="1629" hR="1629" stAng="5400000" swAng="-5400000"/>
                  <a:lnTo>
                    <a:pt x="21600" y="1629"/>
                  </a:lnTo>
                  <a:arcTo wR="1629" hR="162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36920" y="3271680"/>
              <a:ext cx="1374840" cy="1800"/>
            </a:xfrm>
            <a:prstGeom prst="line">
              <a:avLst/>
            </a:prstGeom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11720" y="2346480"/>
              <a:ext cx="1400040" cy="90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11720" y="2346480"/>
              <a:ext cx="1425600" cy="92520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36920" y="2370240"/>
              <a:ext cx="1433520" cy="1801800"/>
            </a:xfrm>
            <a:custGeom>
              <a:avLst/>
              <a:gdLst>
                <a:gd name="textAreaLeft" fmla="*/ 31320 w 1433520"/>
                <a:gd name="textAreaRight" fmla="*/ 1402200 w 1433520"/>
                <a:gd name="textAreaTop" fmla="*/ 31320 h 1801800"/>
                <a:gd name="textAreaBottom" fmla="*/ 1770480 h 1801800"/>
              </a:gdLst>
              <a:ahLst/>
              <a:rect l="textAreaLeft" t="textAreaTop" r="textAreaRight" b="textAreaBottom"/>
              <a:pathLst>
                <a:path w="21600" h="27148">
                  <a:moveTo>
                    <a:pt x="1629" y="0"/>
                  </a:moveTo>
                  <a:arcTo wR="1629" hR="1629" stAng="16200000" swAng="-5400000"/>
                  <a:lnTo>
                    <a:pt x="0" y="25519"/>
                  </a:lnTo>
                  <a:arcTo wR="1629" hR="1629" stAng="10800000" swAng="-5400000"/>
                  <a:lnTo>
                    <a:pt x="19971" y="27148"/>
                  </a:lnTo>
                  <a:arcTo wR="1629" hR="1629" stAng="5400000" swAng="-5400000"/>
                  <a:lnTo>
                    <a:pt x="21600" y="1629"/>
                  </a:lnTo>
                  <a:arcTo wR="1629" hR="162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236920" y="3255840"/>
              <a:ext cx="1409760" cy="158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57160" y="3183120"/>
              <a:ext cx="77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50040" y="29084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6840" y="1920960"/>
              <a:ext cx="4851360" cy="2700360"/>
            </a:xfrm>
            <a:prstGeom prst="ellipse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60520" y="3395520"/>
              <a:ext cx="107640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60520" y="3672000"/>
              <a:ext cx="10764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11320" y="33577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11320" y="3608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1320" y="38592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37360" y="33084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37360" y="350856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37360" y="37339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36880" y="278280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66080" y="3408480"/>
              <a:ext cx="1378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09520" y="3195720"/>
              <a:ext cx="4255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480" y="2621160"/>
              <a:ext cx="1476360" cy="1125360"/>
            </a:xfrm>
            <a:prstGeom prst="ellipse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11480" y="3621240"/>
              <a:ext cx="149040" cy="99720"/>
            </a:xfrm>
            <a:custGeom>
              <a:avLst/>
              <a:gdLst/>
              <a:ahLst/>
              <a:rect l="l" t="t" r="r" b="b"/>
              <a:pathLst>
                <a:path w="94" h="63">
                  <a:moveTo>
                    <a:pt x="0" y="32"/>
                  </a:moveTo>
                  <a:lnTo>
                    <a:pt x="15" y="0"/>
                  </a:lnTo>
                  <a:lnTo>
                    <a:pt x="94" y="32"/>
                  </a:lnTo>
                  <a:lnTo>
                    <a:pt x="15" y="6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4200" y="3295800"/>
              <a:ext cx="1727280" cy="376200"/>
            </a:xfrm>
            <a:custGeom>
              <a:avLst/>
              <a:gdLst/>
              <a:ahLst/>
              <a:rect l="l" t="t" r="r" b="b"/>
              <a:pathLst>
                <a:path w="1088" h="237">
                  <a:moveTo>
                    <a:pt x="1088" y="237"/>
                  </a:moveTo>
                  <a:lnTo>
                    <a:pt x="662" y="221"/>
                  </a:lnTo>
                  <a:lnTo>
                    <a:pt x="316" y="158"/>
                  </a:lnTo>
                  <a:lnTo>
                    <a:pt x="95" y="95"/>
                  </a:lnTo>
                  <a:lnTo>
                    <a:pt x="32" y="48"/>
                  </a:lnTo>
                  <a:lnTo>
                    <a:pt x="0" y="0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13480" y="3546360"/>
              <a:ext cx="174600" cy="7488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110" y="16"/>
                  </a:moveTo>
                  <a:lnTo>
                    <a:pt x="94" y="47"/>
                  </a:lnTo>
                  <a:lnTo>
                    <a:pt x="0" y="31"/>
                  </a:lnTo>
                  <a:lnTo>
                    <a:pt x="94" y="0"/>
                  </a:lnTo>
                  <a:lnTo>
                    <a:pt x="110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62520" y="3146400"/>
              <a:ext cx="825480" cy="425520"/>
            </a:xfrm>
            <a:custGeom>
              <a:avLst/>
              <a:gdLst/>
              <a:ahLst/>
              <a:rect l="l" t="t" r="r" b="b"/>
              <a:pathLst>
                <a:path w="520" h="268">
                  <a:moveTo>
                    <a:pt x="520" y="0"/>
                  </a:moveTo>
                  <a:lnTo>
                    <a:pt x="489" y="94"/>
                  </a:lnTo>
                  <a:lnTo>
                    <a:pt x="378" y="189"/>
                  </a:lnTo>
                  <a:lnTo>
                    <a:pt x="205" y="252"/>
                  </a:lnTo>
                  <a:lnTo>
                    <a:pt x="0" y="268"/>
                  </a:lnTo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51840" y="211464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90120" y="211464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36760" y="3946680"/>
              <a:ext cx="11001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31160" y="3357720"/>
              <a:ext cx="20484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02880" y="378288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f metho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vocation semantic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95440" y="1741320"/>
            <a:ext cx="8597880" cy="3210120"/>
            <a:chOff x="595440" y="1741320"/>
            <a:chExt cx="8597880" cy="3210120"/>
          </a:xfrm>
        </p:grpSpPr>
        <p:sp>
          <p:nvSpPr>
            <p:cNvPr id="229" name=""/>
            <p:cNvSpPr/>
            <p:nvPr/>
          </p:nvSpPr>
          <p:spPr>
            <a:xfrm>
              <a:off x="595440" y="2543040"/>
              <a:ext cx="68180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5440" y="3395520"/>
              <a:ext cx="85978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13400" y="1954080"/>
              <a:ext cx="260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ault tolerance meas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04000" y="1854360"/>
              <a:ext cx="1155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nvoc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04000" y="2103480"/>
              <a:ext cx="100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emant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79280" y="2806560"/>
              <a:ext cx="1995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transmit reque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53760" y="3057480"/>
              <a:ext cx="86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35480" y="2806560"/>
              <a:ext cx="106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uplicat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92000" y="3057480"/>
              <a:ext cx="819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lt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0360" y="2806560"/>
              <a:ext cx="2292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-execute procedu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29000" y="3057480"/>
              <a:ext cx="193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r retransmit re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89720" y="3508200"/>
              <a:ext cx="31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85760" y="401004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85760" y="453564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99400" y="3508200"/>
              <a:ext cx="149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t applic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12000" y="4010040"/>
              <a:ext cx="31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08040" y="4535640"/>
              <a:ext cx="39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71040" y="3508200"/>
              <a:ext cx="149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t applic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65640" y="4010040"/>
              <a:ext cx="223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-execute proced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64920" y="4535640"/>
              <a:ext cx="170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transmit re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19120" y="4535640"/>
              <a:ext cx="1360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t-most-o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702560" y="4010040"/>
              <a:ext cx="1358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t-least-o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76880" y="3508200"/>
              <a:ext cx="6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ay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5440" y="1741320"/>
              <a:ext cx="85978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5440" y="4950000"/>
              <a:ext cx="85978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role of proxy and skeleton in remote method invoc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897480" y="2165400"/>
            <a:ext cx="8086320" cy="3090960"/>
            <a:chOff x="897480" y="2165400"/>
            <a:chExt cx="8086320" cy="3090960"/>
          </a:xfrm>
        </p:grpSpPr>
        <p:sp>
          <p:nvSpPr>
            <p:cNvPr id="256" name=""/>
            <p:cNvSpPr/>
            <p:nvPr/>
          </p:nvSpPr>
          <p:spPr>
            <a:xfrm>
              <a:off x="898560" y="2165400"/>
              <a:ext cx="2917800" cy="3090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32480" y="2165400"/>
              <a:ext cx="4351320" cy="30909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29120" y="2363760"/>
              <a:ext cx="3907080" cy="220032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49320" y="2389320"/>
              <a:ext cx="2817720" cy="2174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24720" y="2890800"/>
              <a:ext cx="73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ct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01680" y="2916360"/>
              <a:ext cx="73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ct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88480" y="2800440"/>
              <a:ext cx="75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kele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66760" y="304308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67840" y="2890800"/>
              <a:ext cx="982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xy for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9560" y="3056040"/>
              <a:ext cx="397080" cy="939600"/>
            </a:xfrm>
            <a:custGeom>
              <a:avLst/>
              <a:gdLst>
                <a:gd name="textAreaLeft" fmla="*/ 55800 w 397080"/>
                <a:gd name="textAreaRight" fmla="*/ 341280 w 397080"/>
                <a:gd name="textAreaTop" fmla="*/ 55800 h 939600"/>
                <a:gd name="textAreaBottom" fmla="*/ 883800 h 939600"/>
              </a:gdLst>
              <a:ahLst/>
              <a:rect l="textAreaLeft" t="textAreaTop" r="textAreaRight" b="textAreaBottom"/>
              <a:pathLst>
                <a:path w="21600" h="51085">
                  <a:moveTo>
                    <a:pt x="10411" y="0"/>
                  </a:moveTo>
                  <a:arcTo wR="10411" hR="10411" stAng="16200000" swAng="-5400000"/>
                  <a:lnTo>
                    <a:pt x="0" y="40674"/>
                  </a:lnTo>
                  <a:arcTo wR="10411" hR="10411" stAng="10800000" swAng="-5400000"/>
                  <a:lnTo>
                    <a:pt x="11189" y="51085"/>
                  </a:lnTo>
                  <a:arcTo wR="10411" hR="10411" stAng="5400000" swAng="-5400000"/>
                  <a:lnTo>
                    <a:pt x="21600" y="10411"/>
                  </a:lnTo>
                  <a:arcTo wR="10411" hR="10411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24400" y="3056040"/>
              <a:ext cx="395280" cy="939600"/>
            </a:xfrm>
            <a:custGeom>
              <a:avLst/>
              <a:gdLst>
                <a:gd name="textAreaLeft" fmla="*/ 55800 w 395280"/>
                <a:gd name="textAreaRight" fmla="*/ 339480 w 395280"/>
                <a:gd name="textAreaTop" fmla="*/ 55800 h 939600"/>
                <a:gd name="textAreaBottom" fmla="*/ 883800 h 939600"/>
              </a:gdLst>
              <a:ahLst/>
              <a:rect l="textAreaLeft" t="textAreaTop" r="textAreaRight" b="textAreaBottom"/>
              <a:pathLst>
                <a:path w="21600" h="51317">
                  <a:moveTo>
                    <a:pt x="10453" y="0"/>
                  </a:moveTo>
                  <a:arcTo wR="10453" hR="10453" stAng="16200000" swAng="-5400000"/>
                  <a:lnTo>
                    <a:pt x="0" y="40864"/>
                  </a:lnTo>
                  <a:arcTo wR="10453" hR="10453" stAng="10800000" swAng="-5400000"/>
                  <a:lnTo>
                    <a:pt x="11147" y="51317"/>
                  </a:lnTo>
                  <a:arcTo wR="10453" hR="10453" stAng="5400000" swAng="-5400000"/>
                  <a:lnTo>
                    <a:pt x="21600" y="10453"/>
                  </a:lnTo>
                  <a:arcTo wR="10453" hR="10453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65440" y="3970440"/>
              <a:ext cx="963360" cy="395280"/>
            </a:xfrm>
            <a:prstGeom prst="roundRect">
              <a:avLst>
                <a:gd name="adj" fmla="val 48394"/>
              </a:avLst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43440" y="383364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45440" y="4675320"/>
              <a:ext cx="141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760" y="4724280"/>
              <a:ext cx="7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02280" y="3254400"/>
              <a:ext cx="173160" cy="98280"/>
            </a:xfrm>
            <a:custGeom>
              <a:avLst/>
              <a:gdLst/>
              <a:ahLst/>
              <a:rect l="l" t="t" r="r" b="b"/>
              <a:pathLst>
                <a:path w="109" h="62">
                  <a:moveTo>
                    <a:pt x="0" y="31"/>
                  </a:moveTo>
                  <a:lnTo>
                    <a:pt x="0" y="0"/>
                  </a:lnTo>
                  <a:lnTo>
                    <a:pt x="109" y="31"/>
                  </a:lnTo>
                  <a:lnTo>
                    <a:pt x="0" y="6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296880" y="3303720"/>
              <a:ext cx="17794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1080" y="3673440"/>
              <a:ext cx="198360" cy="100080"/>
            </a:xfrm>
            <a:custGeom>
              <a:avLst/>
              <a:gdLst/>
              <a:ahLst/>
              <a:rect l="l" t="t" r="r" b="b"/>
              <a:pathLst>
                <a:path w="125" h="63">
                  <a:moveTo>
                    <a:pt x="125" y="32"/>
                  </a:moveTo>
                  <a:lnTo>
                    <a:pt x="125" y="63"/>
                  </a:lnTo>
                  <a:lnTo>
                    <a:pt x="0" y="32"/>
                  </a:lnTo>
                  <a:lnTo>
                    <a:pt x="125" y="0"/>
                  </a:lnTo>
                  <a:lnTo>
                    <a:pt x="125" y="32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19440" y="3724200"/>
              <a:ext cx="177948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23040" y="4649760"/>
              <a:ext cx="1623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1360" y="4675320"/>
              <a:ext cx="141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73160" y="497052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080880" y="497052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97480" y="4946760"/>
              <a:ext cx="157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ference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398920" y="3995280"/>
              <a:ext cx="123840" cy="568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3297240" y="3995280"/>
              <a:ext cx="1440" cy="568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1616040" y="4316400"/>
              <a:ext cx="247680" cy="371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238440" y="4168440"/>
              <a:ext cx="544680" cy="444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25880" y="487188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75720" y="3270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B’s cl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67360" y="2784600"/>
              <a:ext cx="1335240" cy="865080"/>
            </a:xfrm>
            <a:prstGeom prst="roundRect">
              <a:avLst>
                <a:gd name="adj" fmla="val 49264"/>
              </a:avLst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7760" y="3022560"/>
              <a:ext cx="113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 dispat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41280" y="269388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22480" y="2548080"/>
              <a:ext cx="47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37600" y="24987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27960" y="24750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69000" y="3797280"/>
              <a:ext cx="965160" cy="395280"/>
            </a:xfrm>
            <a:prstGeom prst="roundRect">
              <a:avLst>
                <a:gd name="adj" fmla="val 48394"/>
              </a:avLst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68360" y="3130560"/>
              <a:ext cx="346320" cy="519120"/>
            </a:xfrm>
            <a:custGeom>
              <a:avLst/>
              <a:gdLst>
                <a:gd name="textAreaLeft" fmla="*/ 30600 w 346320"/>
                <a:gd name="textAreaRight" fmla="*/ 315720 w 34632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2366">
                  <a:moveTo>
                    <a:pt x="6539" y="0"/>
                  </a:moveTo>
                  <a:arcTo wR="6539" hR="6539" stAng="16200000" swAng="-5400000"/>
                  <a:lnTo>
                    <a:pt x="0" y="25827"/>
                  </a:lnTo>
                  <a:arcTo wR="6539" hR="6539" stAng="10800000" swAng="-5400000"/>
                  <a:lnTo>
                    <a:pt x="15061" y="32366"/>
                  </a:lnTo>
                  <a:arcTo wR="6539" hR="6539" stAng="5400000" swAng="-5400000"/>
                  <a:lnTo>
                    <a:pt x="21600" y="6539"/>
                  </a:lnTo>
                  <a:arcTo wR="6539" hR="6539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68360" y="3130560"/>
              <a:ext cx="371520" cy="542880"/>
            </a:xfrm>
            <a:custGeom>
              <a:avLst/>
              <a:gdLst>
                <a:gd name="textAreaLeft" fmla="*/ 30600 w 371520"/>
                <a:gd name="textAreaRight" fmla="*/ 340920 w 371520"/>
                <a:gd name="textAreaTop" fmla="*/ 30600 h 542880"/>
                <a:gd name="textAreaBottom" fmla="*/ 512280 h 542880"/>
              </a:gdLst>
              <a:ahLst/>
              <a:rect l="textAreaLeft" t="textAreaTop" r="textAreaRight" b="textAreaBottom"/>
              <a:pathLst>
                <a:path w="21600" h="31553">
                  <a:moveTo>
                    <a:pt x="6092" y="0"/>
                  </a:moveTo>
                  <a:arcTo wR="6092" hR="6092" stAng="16200000" swAng="-5400000"/>
                  <a:lnTo>
                    <a:pt x="0" y="25461"/>
                  </a:lnTo>
                  <a:arcTo wR="6092" hR="6092" stAng="10800000" swAng="-5400000"/>
                  <a:lnTo>
                    <a:pt x="15508" y="31553"/>
                  </a:lnTo>
                  <a:arcTo wR="6092" hR="6092" stAng="5400000" swAng="-5400000"/>
                  <a:lnTo>
                    <a:pt x="21600" y="6092"/>
                  </a:lnTo>
                  <a:arcTo wR="6092" hR="6092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93920" y="3154320"/>
              <a:ext cx="320760" cy="22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93920" y="3154320"/>
              <a:ext cx="345960" cy="24768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68360" y="3130560"/>
              <a:ext cx="371520" cy="542880"/>
            </a:xfrm>
            <a:custGeom>
              <a:avLst/>
              <a:gdLst>
                <a:gd name="textAreaLeft" fmla="*/ 30600 w 371520"/>
                <a:gd name="textAreaRight" fmla="*/ 340920 w 371520"/>
                <a:gd name="textAreaTop" fmla="*/ 30600 h 542880"/>
                <a:gd name="textAreaBottom" fmla="*/ 512280 h 542880"/>
              </a:gdLst>
              <a:ahLst/>
              <a:rect l="textAreaLeft" t="textAreaTop" r="textAreaRight" b="textAreaBottom"/>
              <a:pathLst>
                <a:path w="21600" h="31553">
                  <a:moveTo>
                    <a:pt x="6092" y="0"/>
                  </a:moveTo>
                  <a:arcTo wR="6092" hR="6092" stAng="16200000" swAng="-5400000"/>
                  <a:lnTo>
                    <a:pt x="0" y="25461"/>
                  </a:lnTo>
                  <a:arcTo wR="6092" hR="6092" stAng="10800000" swAng="-5400000"/>
                  <a:lnTo>
                    <a:pt x="15508" y="31553"/>
                  </a:lnTo>
                  <a:arcTo wR="6092" hR="6092" stAng="5400000" swAng="-5400000"/>
                  <a:lnTo>
                    <a:pt x="21600" y="6092"/>
                  </a:lnTo>
                  <a:arcTo wR="6092" hR="6092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68360" y="3402000"/>
              <a:ext cx="3463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84560" y="3179880"/>
              <a:ext cx="320400" cy="493560"/>
            </a:xfrm>
            <a:custGeom>
              <a:avLst/>
              <a:gdLst>
                <a:gd name="textAreaLeft" fmla="*/ 30600 w 320400"/>
                <a:gd name="textAreaRight" fmla="*/ 289800 w 320400"/>
                <a:gd name="textAreaTop" fmla="*/ 30600 h 493560"/>
                <a:gd name="textAreaBottom" fmla="*/ 462960 h 493560"/>
              </a:gdLst>
              <a:ahLst/>
              <a:rect l="textAreaLeft" t="textAreaTop" r="textAreaRight" b="textAreaBottom"/>
              <a:pathLst>
                <a:path w="21600" h="33261">
                  <a:moveTo>
                    <a:pt x="7057" y="0"/>
                  </a:moveTo>
                  <a:arcTo wR="7057" hR="7057" stAng="16200000" swAng="-5400000"/>
                  <a:lnTo>
                    <a:pt x="0" y="26204"/>
                  </a:lnTo>
                  <a:arcTo wR="7057" hR="7057" stAng="10800000" swAng="-5400000"/>
                  <a:lnTo>
                    <a:pt x="14543" y="33261"/>
                  </a:lnTo>
                  <a:arcTo wR="7057" hR="7057" stAng="5400000" swAng="-5400000"/>
                  <a:lnTo>
                    <a:pt x="21600" y="7057"/>
                  </a:lnTo>
                  <a:arcTo wR="7057" hR="7057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84560" y="3179880"/>
              <a:ext cx="345960" cy="519120"/>
            </a:xfrm>
            <a:custGeom>
              <a:avLst/>
              <a:gdLst>
                <a:gd name="textAreaLeft" fmla="*/ 30600 w 345960"/>
                <a:gd name="textAreaRight" fmla="*/ 315360 w 34596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2400">
                  <a:moveTo>
                    <a:pt x="6539" y="0"/>
                  </a:moveTo>
                  <a:arcTo wR="6539" hR="6539" stAng="16200000" swAng="-5400000"/>
                  <a:lnTo>
                    <a:pt x="0" y="25861"/>
                  </a:lnTo>
                  <a:arcTo wR="6539" hR="6539" stAng="10800000" swAng="-5400000"/>
                  <a:lnTo>
                    <a:pt x="15061" y="32400"/>
                  </a:lnTo>
                  <a:arcTo wR="6539" hR="6539" stAng="5400000" swAng="-5400000"/>
                  <a:lnTo>
                    <a:pt x="21600" y="6539"/>
                  </a:lnTo>
                  <a:arcTo wR="6539" hR="6539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84560" y="3179880"/>
              <a:ext cx="32040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84560" y="3179880"/>
              <a:ext cx="345960" cy="2714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84560" y="3179880"/>
              <a:ext cx="345960" cy="519120"/>
            </a:xfrm>
            <a:custGeom>
              <a:avLst/>
              <a:gdLst>
                <a:gd name="textAreaLeft" fmla="*/ 30600 w 345960"/>
                <a:gd name="textAreaRight" fmla="*/ 315360 w 34596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2400">
                  <a:moveTo>
                    <a:pt x="6539" y="0"/>
                  </a:moveTo>
                  <a:arcTo wR="6539" hR="6539" stAng="16200000" swAng="-5400000"/>
                  <a:lnTo>
                    <a:pt x="0" y="25861"/>
                  </a:lnTo>
                  <a:arcTo wR="6539" hR="6539" stAng="10800000" swAng="-5400000"/>
                  <a:lnTo>
                    <a:pt x="15061" y="32400"/>
                  </a:lnTo>
                  <a:arcTo wR="6539" hR="6539" stAng="5400000" swAng="-5400000"/>
                  <a:lnTo>
                    <a:pt x="21600" y="6539"/>
                  </a:lnTo>
                  <a:arcTo wR="6539" hR="653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84560" y="3427560"/>
              <a:ext cx="32040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74120" y="3179880"/>
              <a:ext cx="345960" cy="493560"/>
            </a:xfrm>
            <a:custGeom>
              <a:avLst/>
              <a:gdLst>
                <a:gd name="textAreaLeft" fmla="*/ 30600 w 345960"/>
                <a:gd name="textAreaRight" fmla="*/ 315360 w 345960"/>
                <a:gd name="textAreaTop" fmla="*/ 30600 h 493560"/>
                <a:gd name="textAreaBottom" fmla="*/ 462960 h 493560"/>
              </a:gdLst>
              <a:ahLst/>
              <a:rect l="textAreaLeft" t="textAreaTop" r="textAreaRight" b="textAreaBottom"/>
              <a:pathLst>
                <a:path w="21600" h="30806">
                  <a:moveTo>
                    <a:pt x="6539" y="0"/>
                  </a:moveTo>
                  <a:arcTo wR="6539" hR="6539" stAng="16200000" swAng="-5400000"/>
                  <a:lnTo>
                    <a:pt x="0" y="24267"/>
                  </a:lnTo>
                  <a:arcTo wR="6539" hR="6539" stAng="10800000" swAng="-5400000"/>
                  <a:lnTo>
                    <a:pt x="15061" y="30806"/>
                  </a:lnTo>
                  <a:arcTo wR="6539" hR="6539" stAng="5400000" swAng="-5400000"/>
                  <a:lnTo>
                    <a:pt x="21600" y="6539"/>
                  </a:lnTo>
                  <a:arcTo wR="6539" hR="6539" stAng="0" swAng="-5400000"/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74120" y="3179880"/>
              <a:ext cx="369720" cy="519120"/>
            </a:xfrm>
            <a:custGeom>
              <a:avLst/>
              <a:gdLst>
                <a:gd name="textAreaLeft" fmla="*/ 30600 w 369720"/>
                <a:gd name="textAreaRight" fmla="*/ 339120 w 36972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0320">
                  <a:moveTo>
                    <a:pt x="6118" y="0"/>
                  </a:moveTo>
                  <a:arcTo wR="6118" hR="6118" stAng="16200000" swAng="-5400000"/>
                  <a:lnTo>
                    <a:pt x="0" y="24202"/>
                  </a:lnTo>
                  <a:arcTo wR="6118" hR="6118" stAng="10800000" swAng="-5400000"/>
                  <a:lnTo>
                    <a:pt x="15482" y="30320"/>
                  </a:lnTo>
                  <a:arcTo wR="6118" hR="6118" stAng="5400000" swAng="-5400000"/>
                  <a:lnTo>
                    <a:pt x="21600" y="6118"/>
                  </a:lnTo>
                  <a:arcTo wR="6118" hR="6118" stAng="0" swAng="-5400000"/>
                  <a:close/>
                </a:path>
              </a:pathLst>
            </a:cu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97880" y="3179880"/>
              <a:ext cx="32220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97880" y="3179880"/>
              <a:ext cx="345960" cy="271440"/>
            </a:xfrm>
            <a:prstGeom prst="rect">
              <a:avLst/>
            </a:prstGeom>
            <a:noFill/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74120" y="3179880"/>
              <a:ext cx="369720" cy="519120"/>
            </a:xfrm>
            <a:custGeom>
              <a:avLst/>
              <a:gdLst>
                <a:gd name="textAreaLeft" fmla="*/ 30600 w 369720"/>
                <a:gd name="textAreaRight" fmla="*/ 339120 w 369720"/>
                <a:gd name="textAreaTop" fmla="*/ 30600 h 519120"/>
                <a:gd name="textAreaBottom" fmla="*/ 488520 h 519120"/>
              </a:gdLst>
              <a:ahLst/>
              <a:rect l="textAreaLeft" t="textAreaTop" r="textAreaRight" b="textAreaBottom"/>
              <a:pathLst>
                <a:path w="21600" h="30320">
                  <a:moveTo>
                    <a:pt x="6118" y="0"/>
                  </a:moveTo>
                  <a:arcTo wR="6118" hR="6118" stAng="16200000" swAng="-5400000"/>
                  <a:lnTo>
                    <a:pt x="0" y="24202"/>
                  </a:lnTo>
                  <a:arcTo wR="6118" hR="6118" stAng="10800000" swAng="-5400000"/>
                  <a:lnTo>
                    <a:pt x="15482" y="30320"/>
                  </a:lnTo>
                  <a:arcTo wR="6118" hR="6118" stAng="5400000" swAng="-5400000"/>
                  <a:lnTo>
                    <a:pt x="21600" y="6118"/>
                  </a:lnTo>
                  <a:arcTo wR="6118" hR="6118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74120" y="3427560"/>
              <a:ext cx="3459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ole of client and server stub procedures in RPC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19000" y="2259000"/>
            <a:ext cx="8159760" cy="3044880"/>
            <a:chOff x="819000" y="2259000"/>
            <a:chExt cx="8159760" cy="3044880"/>
          </a:xfrm>
        </p:grpSpPr>
        <p:sp>
          <p:nvSpPr>
            <p:cNvPr id="313" name=""/>
            <p:cNvSpPr/>
            <p:nvPr/>
          </p:nvSpPr>
          <p:spPr>
            <a:xfrm>
              <a:off x="819000" y="2259000"/>
              <a:ext cx="2874960" cy="30196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9000" y="2259000"/>
              <a:ext cx="2899080" cy="304488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97480" y="2259000"/>
              <a:ext cx="4456080" cy="30196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97480" y="2259000"/>
              <a:ext cx="4481280" cy="304488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65680" y="2428920"/>
              <a:ext cx="3921120" cy="216864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8320" y="2454480"/>
              <a:ext cx="2752920" cy="214308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81640" y="4511880"/>
              <a:ext cx="53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31760" y="309888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14560" y="3087720"/>
              <a:ext cx="389160" cy="925560"/>
            </a:xfrm>
            <a:custGeom>
              <a:avLst/>
              <a:gdLst>
                <a:gd name="textAreaLeft" fmla="*/ 55080 w 389160"/>
                <a:gd name="textAreaRight" fmla="*/ 334080 w 389160"/>
                <a:gd name="textAreaTop" fmla="*/ 55080 h 925560"/>
                <a:gd name="textAreaBottom" fmla="*/ 870480 h 925560"/>
              </a:gdLst>
              <a:ahLst/>
              <a:rect l="textAreaLeft" t="textAreaTop" r="textAreaRight" b="textAreaBottom"/>
              <a:pathLst>
                <a:path w="21600" h="51345">
                  <a:moveTo>
                    <a:pt x="10447" y="0"/>
                  </a:moveTo>
                  <a:arcTo wR="10447" hR="10447" stAng="16200000" swAng="-5400000"/>
                  <a:lnTo>
                    <a:pt x="0" y="40898"/>
                  </a:lnTo>
                  <a:arcTo wR="10447" hR="10447" stAng="10800000" swAng="-5400000"/>
                  <a:lnTo>
                    <a:pt x="11153" y="51345"/>
                  </a:lnTo>
                  <a:arcTo wR="10447" hR="10447" stAng="5400000" swAng="-5400000"/>
                  <a:lnTo>
                    <a:pt x="21600" y="10447"/>
                  </a:lnTo>
                  <a:arcTo wR="10447" hR="10447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54480" y="3087720"/>
              <a:ext cx="414360" cy="925560"/>
            </a:xfrm>
            <a:custGeom>
              <a:avLst/>
              <a:gdLst>
                <a:gd name="textAreaLeft" fmla="*/ 58680 w 414360"/>
                <a:gd name="textAreaRight" fmla="*/ 355680 w 414360"/>
                <a:gd name="textAreaTop" fmla="*/ 58680 h 925560"/>
                <a:gd name="textAreaBottom" fmla="*/ 866880 h 925560"/>
              </a:gdLst>
              <a:ahLst/>
              <a:rect l="textAreaLeft" t="textAreaTop" r="textAreaRight" b="textAreaBottom"/>
              <a:pathLst>
                <a:path w="21600" h="48225">
                  <a:moveTo>
                    <a:pt x="10469" y="0"/>
                  </a:moveTo>
                  <a:arcTo wR="10469" hR="10469" stAng="16200000" swAng="-5400000"/>
                  <a:lnTo>
                    <a:pt x="0" y="37756"/>
                  </a:lnTo>
                  <a:arcTo wR="10469" hR="10469" stAng="10800000" swAng="-5400000"/>
                  <a:lnTo>
                    <a:pt x="11131" y="48225"/>
                  </a:lnTo>
                  <a:arcTo wR="10469" hR="10469" stAng="5400000" swAng="-5400000"/>
                  <a:lnTo>
                    <a:pt x="21600" y="10469"/>
                  </a:lnTo>
                  <a:arcTo wR="10469" hR="10469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07000" y="390240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99640" y="4707000"/>
              <a:ext cx="141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35600" y="3306960"/>
              <a:ext cx="195120" cy="9684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30"/>
                  </a:moveTo>
                  <a:lnTo>
                    <a:pt x="0" y="0"/>
                  </a:lnTo>
                  <a:lnTo>
                    <a:pt x="123" y="30"/>
                  </a:lnTo>
                  <a:lnTo>
                    <a:pt x="0" y="6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157200" y="3354480"/>
              <a:ext cx="177804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03720" y="3719520"/>
              <a:ext cx="171360" cy="9864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08" y="31"/>
                  </a:moveTo>
                  <a:lnTo>
                    <a:pt x="108" y="62"/>
                  </a:lnTo>
                  <a:lnTo>
                    <a:pt x="0" y="31"/>
                  </a:lnTo>
                  <a:lnTo>
                    <a:pt x="108" y="0"/>
                  </a:lnTo>
                  <a:lnTo>
                    <a:pt x="108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98840" y="3768840"/>
              <a:ext cx="1728720" cy="1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56480" y="4707000"/>
              <a:ext cx="141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27360" y="499932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87200" y="4999320"/>
              <a:ext cx="72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227560" y="4036680"/>
              <a:ext cx="146160" cy="560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157560" y="4036680"/>
              <a:ext cx="1440" cy="560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82400" y="497376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spat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36640" y="4488120"/>
              <a:ext cx="70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i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96040" y="407376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st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50040" y="25639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95200" y="407376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 st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62080" y="3087720"/>
              <a:ext cx="389160" cy="925560"/>
            </a:xfrm>
            <a:custGeom>
              <a:avLst/>
              <a:gdLst>
                <a:gd name="textAreaLeft" fmla="*/ 55080 w 389160"/>
                <a:gd name="textAreaRight" fmla="*/ 334080 w 389160"/>
                <a:gd name="textAreaTop" fmla="*/ 55080 h 925560"/>
                <a:gd name="textAreaBottom" fmla="*/ 870480 h 925560"/>
              </a:gdLst>
              <a:ahLst/>
              <a:rect l="textAreaLeft" t="textAreaTop" r="textAreaRight" b="textAreaBottom"/>
              <a:pathLst>
                <a:path w="21600" h="51345">
                  <a:moveTo>
                    <a:pt x="10447" y="0"/>
                  </a:moveTo>
                  <a:arcTo wR="10447" hR="10447" stAng="16200000" swAng="-5400000"/>
                  <a:lnTo>
                    <a:pt x="0" y="40898"/>
                  </a:lnTo>
                  <a:arcTo wR="10447" hR="10447" stAng="10800000" swAng="-5400000"/>
                  <a:lnTo>
                    <a:pt x="11153" y="51345"/>
                  </a:lnTo>
                  <a:arcTo wR="10447" hR="10447" stAng="5400000" swAng="-5400000"/>
                  <a:lnTo>
                    <a:pt x="21600" y="10447"/>
                  </a:lnTo>
                  <a:arcTo wR="10447" hR="10447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97480" y="4292640"/>
              <a:ext cx="91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82240" y="4243680"/>
              <a:ext cx="91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589880" y="3087720"/>
              <a:ext cx="390600" cy="925560"/>
            </a:xfrm>
            <a:custGeom>
              <a:avLst/>
              <a:gdLst>
                <a:gd name="textAreaLeft" fmla="*/ 55080 w 390600"/>
                <a:gd name="textAreaRight" fmla="*/ 335520 w 390600"/>
                <a:gd name="textAreaTop" fmla="*/ 55080 h 925560"/>
                <a:gd name="textAreaBottom" fmla="*/ 870480 h 925560"/>
              </a:gdLst>
              <a:ahLst/>
              <a:rect l="textAreaLeft" t="textAreaTop" r="textAreaRight" b="textAreaBottom"/>
              <a:pathLst>
                <a:path w="21600" h="51156">
                  <a:moveTo>
                    <a:pt x="10405" y="0"/>
                  </a:moveTo>
                  <a:arcTo wR="10405" hR="10405" stAng="16200000" swAng="-5400000"/>
                  <a:lnTo>
                    <a:pt x="0" y="40751"/>
                  </a:lnTo>
                  <a:arcTo wR="10405" hR="10405" stAng="10800000" swAng="-5400000"/>
                  <a:lnTo>
                    <a:pt x="11195" y="51156"/>
                  </a:lnTo>
                  <a:arcTo wR="10405" hR="10405" stAng="5400000" swAng="-5400000"/>
                  <a:lnTo>
                    <a:pt x="21600" y="10405"/>
                  </a:lnTo>
                  <a:arcTo wR="10405" hR="10405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57800" y="2684520"/>
              <a:ext cx="1300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 proces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4600" y="2684520"/>
              <a:ext cx="138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 proces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63200" y="4754880"/>
              <a:ext cx="91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35680" y="3087720"/>
              <a:ext cx="389160" cy="925560"/>
            </a:xfrm>
            <a:custGeom>
              <a:avLst/>
              <a:gdLst>
                <a:gd name="textAreaLeft" fmla="*/ 55080 w 389160"/>
                <a:gd name="textAreaRight" fmla="*/ 334080 w 389160"/>
                <a:gd name="textAreaTop" fmla="*/ 55080 h 925560"/>
                <a:gd name="textAreaBottom" fmla="*/ 870480 h 925560"/>
              </a:gdLst>
              <a:ahLst/>
              <a:rect l="textAreaLeft" t="textAreaTop" r="textAreaRight" b="textAreaBottom"/>
              <a:pathLst>
                <a:path w="21600" h="51345">
                  <a:moveTo>
                    <a:pt x="10447" y="0"/>
                  </a:moveTo>
                  <a:arcTo wR="10447" hR="10447" stAng="16200000" swAng="-5400000"/>
                  <a:lnTo>
                    <a:pt x="0" y="40898"/>
                  </a:lnTo>
                  <a:arcTo wR="10447" hR="10447" stAng="10800000" swAng="-5400000"/>
                  <a:lnTo>
                    <a:pt x="11153" y="51345"/>
                  </a:lnTo>
                  <a:arcTo wR="10447" hR="10447" stAng="5400000" swAng="-5400000"/>
                  <a:lnTo>
                    <a:pt x="21600" y="10447"/>
                  </a:lnTo>
                  <a:arcTo wR="10447" hR="10447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06960" y="3087720"/>
              <a:ext cx="389160" cy="925560"/>
            </a:xfrm>
            <a:custGeom>
              <a:avLst/>
              <a:gdLst>
                <a:gd name="textAreaLeft" fmla="*/ 55080 w 389160"/>
                <a:gd name="textAreaRight" fmla="*/ 334080 w 389160"/>
                <a:gd name="textAreaTop" fmla="*/ 55080 h 925560"/>
                <a:gd name="textAreaBottom" fmla="*/ 870480 h 925560"/>
              </a:gdLst>
              <a:ahLst/>
              <a:rect l="textAreaLeft" t="textAreaTop" r="textAreaRight" b="textAreaBottom"/>
              <a:pathLst>
                <a:path w="21600" h="51345">
                  <a:moveTo>
                    <a:pt x="10447" y="0"/>
                  </a:moveTo>
                  <a:arcTo wR="10447" hR="10447" stAng="16200000" swAng="-5400000"/>
                  <a:lnTo>
                    <a:pt x="0" y="40898"/>
                  </a:lnTo>
                  <a:arcTo wR="10447" hR="10447" stAng="10800000" swAng="-5400000"/>
                  <a:lnTo>
                    <a:pt x="11153" y="51345"/>
                  </a:lnTo>
                  <a:arcTo wR="10447" hR="10447" stAng="5400000" swAng="-5400000"/>
                  <a:lnTo>
                    <a:pt x="21600" y="10447"/>
                  </a:lnTo>
                  <a:arcTo wR="10447" hR="10447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33360" y="3087720"/>
              <a:ext cx="390600" cy="925560"/>
            </a:xfrm>
            <a:custGeom>
              <a:avLst/>
              <a:gdLst>
                <a:gd name="textAreaLeft" fmla="*/ 55080 w 390600"/>
                <a:gd name="textAreaRight" fmla="*/ 335520 w 390600"/>
                <a:gd name="textAreaTop" fmla="*/ 55080 h 925560"/>
                <a:gd name="textAreaBottom" fmla="*/ 870480 h 925560"/>
              </a:gdLst>
              <a:ahLst/>
              <a:rect l="textAreaLeft" t="textAreaTop" r="textAreaRight" b="textAreaBottom"/>
              <a:pathLst>
                <a:path w="21600" h="51156">
                  <a:moveTo>
                    <a:pt x="10405" y="0"/>
                  </a:moveTo>
                  <a:arcTo wR="10405" hR="10405" stAng="16200000" swAng="-5400000"/>
                  <a:lnTo>
                    <a:pt x="0" y="40751"/>
                  </a:lnTo>
                  <a:arcTo wR="10405" hR="10405" stAng="10800000" swAng="-5400000"/>
                  <a:lnTo>
                    <a:pt x="11195" y="51156"/>
                  </a:lnTo>
                  <a:arcTo wR="10405" hR="10405" stAng="5400000" swAng="-5400000"/>
                  <a:lnTo>
                    <a:pt x="21600" y="10405"/>
                  </a:lnTo>
                  <a:arcTo wR="10405" hR="10405" stAng="0" swAng="-5400000"/>
                  <a:close/>
                </a:path>
              </a:pathLst>
            </a:cu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087560" y="3915000"/>
              <a:ext cx="145800" cy="5364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7857720" y="3915000"/>
              <a:ext cx="414360" cy="5364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202440" y="4013280"/>
              <a:ext cx="1440" cy="851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84160" y="4730760"/>
              <a:ext cx="81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gr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5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es interface in Sun XD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27480" y="1386000"/>
            <a:ext cx="2751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st MAX = 1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ypedef int FileIdentifi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ypedef int FilePoint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ypedef int 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ruct Dat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nt 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har buffer[MAX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ruct writearg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ileIdentifier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ilePointer posi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ata d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44800" y="2178000"/>
            <a:ext cx="3966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truct readarg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ileIdentifier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ilePointer posi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Length lengt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rogram FILEREADWRIT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ersion VERSION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oid WRITE(writeargs)=1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ata READ(readargs)=2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=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 = 999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41800" y="1459080"/>
            <a:ext cx="0" cy="453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0-11-23T11:33:23Z</dcterms:modified>
  <cp:revision>51</cp:revision>
  <dc:subject/>
  <dc:title>Figure 15.1 A distributed multimedia system</dc:title>
</cp:coreProperties>
</file>